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7.wmf" ContentType="image/x-wmf"/>
  <Override PartName="/ppt/media/image12.png" ContentType="image/png"/>
  <Override PartName="/ppt/media/chimes.wav" ContentType="audio/x-wav"/>
  <Override PartName="/ppt/media/image11.wmf" ContentType="image/x-wmf"/>
  <Override PartName="/ppt/media/image13.wmf" ContentType="image/x-wmf"/>
  <Override PartName="/ppt/media/image5.png" ContentType="image/png"/>
  <Override PartName="/ppt/media/image2.png" ContentType="image/png"/>
  <Override PartName="/ppt/media/image3.wmf" ContentType="image/x-wmf"/>
  <Override PartName="/ppt/media/image1.gif" ContentType="image/gif"/>
  <Override PartName="/ppt/media/image4.png" ContentType="image/png"/>
  <Override PartName="/ppt/media/Ding2.wav" ContentType="audio/x-wav"/>
  <Override PartName="/ppt/media/glass.wav" ContentType="audio/x-wav"/>
  <Override PartName="/ppt/media/image10.png" ContentType="image/png"/>
  <Override PartName="/ppt/media/applause.wav" ContentType="audio/x-wav"/>
  <Override PartName="/ppt/media/image6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7019-8261-47C2-B196-679C644CE76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EDF8-63C9-4D86-80B3-6FD079FA39C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644F-D5D0-46E5-8A1A-CC1BFFA1EBD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8CC8-E2A2-4A28-875F-B5A5CA8CE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EAB3-0712-42CB-93E4-34878B3F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AE1B-1965-4906-B903-80BB3B7D7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F931-454E-4C9C-AD50-9A2D3E4CD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E099-F40B-423D-B2BD-80692CAC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FF99-EFB0-439B-9BC6-E77D6CCE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8E95-8D68-468C-8E9F-BD006371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016B-F61E-40D0-BC59-91056C74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5BD8-E814-423F-8CAD-6D96F868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7485-E718-4B9E-9E34-E1E32BD1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4F06-A31A-45B9-A182-FDC240B9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542D-2F7A-4241-8F14-C610FE81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3726-C35F-411B-B55E-FE7ABE6E3E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audio" Target="../media/Ding2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762120"/>
            <a:ext cx="7467840" cy="556236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59840" y="26028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8360" y="5973840"/>
            <a:ext cx="884160" cy="884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371600" y="914400"/>
            <a:ext cx="5410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27.2.1</a:t>
            </a: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相似三角形的判定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(1)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graphicFrame>
        <p:nvGraphicFramePr>
          <p:cNvPr id="52" name="ShockwaveFlash1"/>
          <p:cNvGraphicFramePr/>
          <p:nvPr/>
        </p:nvGraphicFramePr>
        <p:xfrm>
          <a:off x="685800" y="2362320"/>
          <a:ext cx="7162920" cy="36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362320"/>
                    <a:ext cx="7162920" cy="3657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828800" y="2590920"/>
            <a:ext cx="5715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05120" y="3505320"/>
            <a:ext cx="5790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5105520"/>
            <a:ext cx="5791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2231280" y="1718280"/>
            <a:ext cx="3005280" cy="380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09600" y="1394280"/>
            <a:ext cx="2391480" cy="4679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835040" y="19558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835040" y="30988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911000" y="439416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76920" y="990720"/>
            <a:ext cx="89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685800"/>
            <a:ext cx="90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81080" y="228600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828800" y="2590920"/>
            <a:ext cx="5715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3505320"/>
            <a:ext cx="5790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828800" y="5105520"/>
            <a:ext cx="5791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307240" y="1794600"/>
            <a:ext cx="3005280" cy="380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647520" y="1605960"/>
            <a:ext cx="2611080" cy="4560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19558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835040" y="30988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911000" y="439416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990720"/>
            <a:ext cx="89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52680" y="685800"/>
            <a:ext cx="90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029200" y="1066680"/>
            <a:ext cx="89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914400"/>
            <a:ext cx="90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752480" y="2590920"/>
            <a:ext cx="5715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28800" y="3505320"/>
            <a:ext cx="5791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752480" y="5105520"/>
            <a:ext cx="5791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535840" y="1870920"/>
            <a:ext cx="3004920" cy="3801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20200" y="1709280"/>
            <a:ext cx="2703600" cy="4506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758720" y="19558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758720" y="30988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835040" y="439416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71800" y="2590920"/>
            <a:ext cx="2286000" cy="2514600"/>
          </a:xfrm>
          <a:custGeom>
            <a:avLst/>
            <a:gdLst/>
            <a:ahLst/>
            <a:rect l="l" t="t" r="r" b="b"/>
            <a:pathLst>
              <a:path w="1440" h="1584">
                <a:moveTo>
                  <a:pt x="480" y="0"/>
                </a:moveTo>
                <a:lnTo>
                  <a:pt x="1248" y="0"/>
                </a:lnTo>
                <a:lnTo>
                  <a:pt x="0" y="1584"/>
                </a:lnTo>
                <a:lnTo>
                  <a:pt x="1440" y="1584"/>
                </a:lnTo>
                <a:lnTo>
                  <a:pt x="480" y="0"/>
                </a:lnTo>
                <a:close/>
              </a:path>
            </a:pathLst>
          </a:custGeom>
          <a:solidFill>
            <a:srgbClr val="ff6699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4800600" y="456480"/>
            <a:ext cx="3581280" cy="2903400"/>
            <a:chOff x="4800600" y="456480"/>
            <a:chExt cx="3581280" cy="2903400"/>
          </a:xfrm>
        </p:grpSpPr>
        <p:grpSp>
          <p:nvGrpSpPr>
            <p:cNvPr id="213" name=""/>
            <p:cNvGrpSpPr/>
            <p:nvPr/>
          </p:nvGrpSpPr>
          <p:grpSpPr>
            <a:xfrm>
              <a:off x="4800600" y="762120"/>
              <a:ext cx="3581280" cy="2209680"/>
              <a:chOff x="4800600" y="762120"/>
              <a:chExt cx="3581280" cy="2209680"/>
            </a:xfrm>
          </p:grpSpPr>
          <p:sp>
            <p:nvSpPr>
              <p:cNvPr id="214" name=""/>
              <p:cNvSpPr/>
              <p:nvPr/>
            </p:nvSpPr>
            <p:spPr>
              <a:xfrm>
                <a:off x="4800600" y="762120"/>
                <a:ext cx="358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800600" y="1447920"/>
                <a:ext cx="358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00600" y="2971800"/>
                <a:ext cx="358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716440" y="456480"/>
              <a:ext cx="1597320" cy="2820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194080" y="526320"/>
              <a:ext cx="1575360" cy="2833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8509680" y="380880"/>
            <a:ext cx="633240" cy="2715120"/>
            <a:chOff x="8509680" y="380880"/>
            <a:chExt cx="633240" cy="2715120"/>
          </a:xfrm>
        </p:grpSpPr>
        <p:sp>
          <p:nvSpPr>
            <p:cNvPr id="220" name=""/>
            <p:cNvSpPr/>
            <p:nvPr/>
          </p:nvSpPr>
          <p:spPr>
            <a:xfrm>
              <a:off x="8509680" y="380880"/>
              <a:ext cx="63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L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509680" y="1066680"/>
              <a:ext cx="63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L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509680" y="2514600"/>
              <a:ext cx="63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L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334840" y="0"/>
            <a:ext cx="1751760" cy="581400"/>
            <a:chOff x="5334840" y="0"/>
            <a:chExt cx="1751760" cy="581400"/>
          </a:xfrm>
        </p:grpSpPr>
        <p:sp>
          <p:nvSpPr>
            <p:cNvPr id="224" name=""/>
            <p:cNvSpPr/>
            <p:nvPr/>
          </p:nvSpPr>
          <p:spPr>
            <a:xfrm>
              <a:off x="6400800" y="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L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334840" y="0"/>
              <a:ext cx="63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L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5410080" y="762120"/>
            <a:ext cx="1752840" cy="2209680"/>
            <a:chOff x="5410080" y="762120"/>
            <a:chExt cx="1752840" cy="2209680"/>
          </a:xfrm>
        </p:grpSpPr>
        <p:sp>
          <p:nvSpPr>
            <p:cNvPr id="227" name=""/>
            <p:cNvSpPr/>
            <p:nvPr/>
          </p:nvSpPr>
          <p:spPr>
            <a:xfrm>
              <a:off x="5410080" y="1447920"/>
              <a:ext cx="1752840" cy="1523880"/>
            </a:xfrm>
            <a:prstGeom prst="triangle">
              <a:avLst>
                <a:gd name="adj" fmla="val 50000"/>
              </a:avLst>
            </a:prstGeom>
            <a:solidFill>
              <a:srgbClr val="f1034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43600" y="762120"/>
              <a:ext cx="685800" cy="685800"/>
            </a:xfrm>
            <a:prstGeom prst="flowChartMerge">
              <a:avLst/>
            </a:prstGeom>
            <a:solidFill>
              <a:srgbClr val="f1034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29" name=""/>
          <p:cNvGraphicFramePr/>
          <p:nvPr/>
        </p:nvGraphicFramePr>
        <p:xfrm>
          <a:off x="4419720" y="0"/>
          <a:ext cx="4724280" cy="34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0"/>
                    <a:ext cx="4724280" cy="34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1" name=""/>
          <p:cNvGrpSpPr/>
          <p:nvPr/>
        </p:nvGrpSpPr>
        <p:grpSpPr>
          <a:xfrm>
            <a:off x="304920" y="0"/>
            <a:ext cx="4266000" cy="3294000"/>
            <a:chOff x="304920" y="0"/>
            <a:chExt cx="4266000" cy="3294000"/>
          </a:xfrm>
        </p:grpSpPr>
        <p:grpSp>
          <p:nvGrpSpPr>
            <p:cNvPr id="232" name=""/>
            <p:cNvGrpSpPr/>
            <p:nvPr/>
          </p:nvGrpSpPr>
          <p:grpSpPr>
            <a:xfrm>
              <a:off x="304920" y="363600"/>
              <a:ext cx="3581280" cy="2930400"/>
              <a:chOff x="304920" y="363600"/>
              <a:chExt cx="3581280" cy="2930400"/>
            </a:xfrm>
          </p:grpSpPr>
          <p:grpSp>
            <p:nvGrpSpPr>
              <p:cNvPr id="233" name=""/>
              <p:cNvGrpSpPr/>
              <p:nvPr/>
            </p:nvGrpSpPr>
            <p:grpSpPr>
              <a:xfrm>
                <a:off x="304920" y="762120"/>
                <a:ext cx="3581280" cy="2209680"/>
                <a:chOff x="304920" y="762120"/>
                <a:chExt cx="3581280" cy="220968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304920" y="762120"/>
                  <a:ext cx="3581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04920" y="1447920"/>
                  <a:ext cx="3581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04920" y="2971800"/>
                  <a:ext cx="3581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647280" y="363600"/>
                <a:ext cx="2305800" cy="2930400"/>
                <a:chOff x="647280" y="363600"/>
                <a:chExt cx="2305800" cy="293040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1618920" y="372240"/>
                  <a:ext cx="1334160" cy="2913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H="1">
                  <a:off x="647280" y="363600"/>
                  <a:ext cx="1296000" cy="29304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"/>
            <p:cNvGrpSpPr/>
            <p:nvPr/>
          </p:nvGrpSpPr>
          <p:grpSpPr>
            <a:xfrm>
              <a:off x="3937680" y="457200"/>
              <a:ext cx="633240" cy="2715120"/>
              <a:chOff x="3937680" y="457200"/>
              <a:chExt cx="633240" cy="2715120"/>
            </a:xfrm>
          </p:grpSpPr>
          <p:sp>
            <p:nvSpPr>
              <p:cNvPr id="241" name=""/>
              <p:cNvSpPr/>
              <p:nvPr/>
            </p:nvSpPr>
            <p:spPr>
              <a:xfrm>
                <a:off x="3937680" y="457200"/>
                <a:ext cx="63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L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937680" y="1143000"/>
                <a:ext cx="63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L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937680" y="2590920"/>
                <a:ext cx="63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L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1220040" y="0"/>
              <a:ext cx="1218240" cy="581400"/>
              <a:chOff x="1220040" y="0"/>
              <a:chExt cx="1218240" cy="581400"/>
            </a:xfrm>
          </p:grpSpPr>
          <p:sp>
            <p:nvSpPr>
              <p:cNvPr id="245" name=""/>
              <p:cNvSpPr/>
              <p:nvPr/>
            </p:nvSpPr>
            <p:spPr>
              <a:xfrm>
                <a:off x="1752480" y="0"/>
                <a:ext cx="68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L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220040" y="0"/>
                <a:ext cx="63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L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7" name=""/>
          <p:cNvGrpSpPr/>
          <p:nvPr/>
        </p:nvGrpSpPr>
        <p:grpSpPr>
          <a:xfrm>
            <a:off x="762120" y="762120"/>
            <a:ext cx="2057400" cy="2209680"/>
            <a:chOff x="762120" y="762120"/>
            <a:chExt cx="2057400" cy="2209680"/>
          </a:xfrm>
        </p:grpSpPr>
        <p:sp>
          <p:nvSpPr>
            <p:cNvPr id="248" name=""/>
            <p:cNvSpPr/>
            <p:nvPr/>
          </p:nvSpPr>
          <p:spPr>
            <a:xfrm>
              <a:off x="762120" y="762120"/>
              <a:ext cx="2057400" cy="2209680"/>
            </a:xfrm>
            <a:prstGeom prst="triangle">
              <a:avLst>
                <a:gd name="adj" fmla="val 50000"/>
              </a:avLst>
            </a:prstGeom>
            <a:solidFill>
              <a:srgbClr val="f1034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47920" y="144792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4954680" y="685800"/>
            <a:ext cx="2509560" cy="2410200"/>
            <a:chOff x="4954680" y="685800"/>
            <a:chExt cx="2509560" cy="2410200"/>
          </a:xfrm>
        </p:grpSpPr>
        <p:grpSp>
          <p:nvGrpSpPr>
            <p:cNvPr id="251" name=""/>
            <p:cNvGrpSpPr/>
            <p:nvPr/>
          </p:nvGrpSpPr>
          <p:grpSpPr>
            <a:xfrm>
              <a:off x="4954680" y="685800"/>
              <a:ext cx="2509560" cy="2410200"/>
              <a:chOff x="4954680" y="685800"/>
              <a:chExt cx="2509560" cy="2410200"/>
            </a:xfrm>
          </p:grpSpPr>
          <p:sp>
            <p:nvSpPr>
              <p:cNvPr id="252" name=""/>
              <p:cNvSpPr/>
              <p:nvPr/>
            </p:nvSpPr>
            <p:spPr>
              <a:xfrm>
                <a:off x="5640480" y="13716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954680" y="25146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012080" y="25146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575320" y="6858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467400" y="68580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5410080" y="762120"/>
              <a:ext cx="1752840" cy="2209680"/>
              <a:chOff x="5410080" y="762120"/>
              <a:chExt cx="1752840" cy="2209680"/>
            </a:xfrm>
          </p:grpSpPr>
          <p:sp>
            <p:nvSpPr>
              <p:cNvPr id="258" name=""/>
              <p:cNvSpPr/>
              <p:nvPr/>
            </p:nvSpPr>
            <p:spPr>
              <a:xfrm>
                <a:off x="5410080" y="1447920"/>
                <a:ext cx="1752840" cy="1523880"/>
              </a:xfrm>
              <a:prstGeom prst="triangle">
                <a:avLst>
                  <a:gd name="adj" fmla="val 50000"/>
                </a:avLst>
              </a:prstGeom>
              <a:solidFill>
                <a:srgbClr val="f1034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943600" y="762120"/>
                <a:ext cx="685800" cy="685800"/>
              </a:xfrm>
              <a:prstGeom prst="flowChartMerge">
                <a:avLst/>
              </a:prstGeom>
              <a:solidFill>
                <a:srgbClr val="f1034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60" name=""/>
          <p:cNvGraphicFramePr/>
          <p:nvPr/>
        </p:nvGraphicFramePr>
        <p:xfrm>
          <a:off x="0" y="0"/>
          <a:ext cx="4724280" cy="346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4724280" cy="34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2" name=""/>
          <p:cNvGrpSpPr/>
          <p:nvPr/>
        </p:nvGrpSpPr>
        <p:grpSpPr>
          <a:xfrm>
            <a:off x="459000" y="533520"/>
            <a:ext cx="2738160" cy="2437920"/>
            <a:chOff x="459000" y="533520"/>
            <a:chExt cx="2738160" cy="2437920"/>
          </a:xfrm>
        </p:grpSpPr>
        <p:grpSp>
          <p:nvGrpSpPr>
            <p:cNvPr id="263" name=""/>
            <p:cNvGrpSpPr/>
            <p:nvPr/>
          </p:nvGrpSpPr>
          <p:grpSpPr>
            <a:xfrm>
              <a:off x="459000" y="533520"/>
              <a:ext cx="2738160" cy="2409840"/>
              <a:chOff x="459000" y="533520"/>
              <a:chExt cx="2738160" cy="2409840"/>
            </a:xfrm>
          </p:grpSpPr>
          <p:sp>
            <p:nvSpPr>
              <p:cNvPr id="264" name=""/>
              <p:cNvSpPr/>
              <p:nvPr/>
            </p:nvSpPr>
            <p:spPr>
              <a:xfrm>
                <a:off x="1220760" y="5335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59000" y="23619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745000" y="23619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992160" y="121896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211480" y="12189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762120" y="761760"/>
              <a:ext cx="2057400" cy="2209680"/>
              <a:chOff x="762120" y="761760"/>
              <a:chExt cx="2057400" cy="2209680"/>
            </a:xfrm>
          </p:grpSpPr>
          <p:sp>
            <p:nvSpPr>
              <p:cNvPr id="270" name=""/>
              <p:cNvSpPr/>
              <p:nvPr/>
            </p:nvSpPr>
            <p:spPr>
              <a:xfrm>
                <a:off x="762120" y="761760"/>
                <a:ext cx="2057400" cy="2209680"/>
              </a:xfrm>
              <a:prstGeom prst="triangle">
                <a:avLst>
                  <a:gd name="adj" fmla="val 50000"/>
                </a:avLst>
              </a:prstGeom>
              <a:solidFill>
                <a:srgbClr val="f1034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447920" y="1447560"/>
                <a:ext cx="685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2" name=""/>
          <p:cNvSpPr/>
          <p:nvPr/>
        </p:nvSpPr>
        <p:spPr>
          <a:xfrm>
            <a:off x="380880" y="3429000"/>
            <a:ext cx="3886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∵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DE∥B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613080" y="3429000"/>
            <a:ext cx="3272760" cy="1770120"/>
            <a:chOff x="613080" y="3429000"/>
            <a:chExt cx="3272760" cy="1770120"/>
          </a:xfrm>
        </p:grpSpPr>
        <p:grpSp>
          <p:nvGrpSpPr>
            <p:cNvPr id="274" name=""/>
            <p:cNvGrpSpPr/>
            <p:nvPr/>
          </p:nvGrpSpPr>
          <p:grpSpPr>
            <a:xfrm>
              <a:off x="1170000" y="3429000"/>
              <a:ext cx="2715840" cy="1770120"/>
              <a:chOff x="1170000" y="3429000"/>
              <a:chExt cx="2715840" cy="1770120"/>
            </a:xfrm>
          </p:grpSpPr>
          <p:sp>
            <p:nvSpPr>
              <p:cNvPr id="275" name=""/>
              <p:cNvSpPr/>
              <p:nvPr/>
            </p:nvSpPr>
            <p:spPr>
              <a:xfrm>
                <a:off x="1218960" y="3429000"/>
                <a:ext cx="83808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66"/>
                    </a:solidFill>
                    <a:latin typeface="隶书"/>
                    <a:ea typeface="隶书"/>
                  </a:rPr>
                  <a:t> </a:t>
                </a:r>
                <a:r>
                  <a:rPr b="1" lang="en-US" sz="4000" spc="-1" strike="noStrike">
                    <a:solidFill>
                      <a:srgbClr val="000066"/>
                    </a:solidFill>
                    <a:latin typeface="隶书"/>
                    <a:ea typeface="隶书"/>
                  </a:rPr>
                  <a:t>AD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514240" y="4038480"/>
                <a:ext cx="1371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66"/>
                    </a:solidFill>
                    <a:latin typeface="隶书"/>
                    <a:ea typeface="隶书"/>
                  </a:rPr>
                  <a:t>AE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465280" y="4495680"/>
                <a:ext cx="790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66"/>
                    </a:solidFill>
                    <a:latin typeface="隶书"/>
                    <a:ea typeface="隶书"/>
                  </a:rPr>
                  <a:t>A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170000" y="4495680"/>
                <a:ext cx="790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66"/>
                    </a:solidFill>
                    <a:latin typeface="隶书"/>
                    <a:ea typeface="隶书"/>
                  </a:rPr>
                  <a:t>A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9" name=""/>
              <p:cNvGrpSpPr/>
              <p:nvPr/>
            </p:nvGrpSpPr>
            <p:grpSpPr>
              <a:xfrm>
                <a:off x="1218960" y="4343400"/>
                <a:ext cx="2057400" cy="642600"/>
                <a:chOff x="1218960" y="4343400"/>
                <a:chExt cx="2057400" cy="64260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1218960" y="4648320"/>
                  <a:ext cx="761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514240" y="4648320"/>
                  <a:ext cx="7621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1982160" y="4343400"/>
                  <a:ext cx="4413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0000"/>
                      </a:solidFill>
                      <a:latin typeface="Times New Roman"/>
                      <a:ea typeface="华文新魏"/>
                    </a:rPr>
                    <a:t>=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3" name=""/>
            <p:cNvSpPr/>
            <p:nvPr/>
          </p:nvSpPr>
          <p:spPr>
            <a:xfrm flipV="1">
              <a:off x="613080" y="4264920"/>
              <a:ext cx="534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∵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4572000" y="3429000"/>
            <a:ext cx="3886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∵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DE∥B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651920" y="3429000"/>
            <a:ext cx="3425040" cy="1770120"/>
            <a:chOff x="4651920" y="3429000"/>
            <a:chExt cx="3425040" cy="1770120"/>
          </a:xfrm>
        </p:grpSpPr>
        <p:grpSp>
          <p:nvGrpSpPr>
            <p:cNvPr id="286" name=""/>
            <p:cNvGrpSpPr/>
            <p:nvPr/>
          </p:nvGrpSpPr>
          <p:grpSpPr>
            <a:xfrm>
              <a:off x="5361120" y="3429000"/>
              <a:ext cx="2715840" cy="1770120"/>
              <a:chOff x="5361120" y="3429000"/>
              <a:chExt cx="2715840" cy="1770120"/>
            </a:xfrm>
          </p:grpSpPr>
          <p:sp>
            <p:nvSpPr>
              <p:cNvPr id="287" name=""/>
              <p:cNvSpPr/>
              <p:nvPr/>
            </p:nvSpPr>
            <p:spPr>
              <a:xfrm>
                <a:off x="5410080" y="3429000"/>
                <a:ext cx="83808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66"/>
                    </a:solidFill>
                    <a:latin typeface="隶书"/>
                    <a:ea typeface="隶书"/>
                  </a:rPr>
                  <a:t> </a:t>
                </a:r>
                <a:r>
                  <a:rPr b="1" lang="en-US" sz="4000" spc="-1" strike="noStrike">
                    <a:solidFill>
                      <a:srgbClr val="000066"/>
                    </a:solidFill>
                    <a:latin typeface="隶书"/>
                    <a:ea typeface="隶书"/>
                  </a:rPr>
                  <a:t>AD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705360" y="4038480"/>
                <a:ext cx="1371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66"/>
                    </a:solidFill>
                    <a:latin typeface="隶书"/>
                    <a:ea typeface="隶书"/>
                  </a:rPr>
                  <a:t>AE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656400" y="4495680"/>
                <a:ext cx="790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66"/>
                    </a:solidFill>
                    <a:latin typeface="隶书"/>
                    <a:ea typeface="隶书"/>
                  </a:rPr>
                  <a:t>A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361120" y="4495680"/>
                <a:ext cx="790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66"/>
                    </a:solidFill>
                    <a:latin typeface="隶书"/>
                    <a:ea typeface="隶书"/>
                  </a:rPr>
                  <a:t>A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1" name=""/>
              <p:cNvGrpSpPr/>
              <p:nvPr/>
            </p:nvGrpSpPr>
            <p:grpSpPr>
              <a:xfrm>
                <a:off x="5410080" y="4343400"/>
                <a:ext cx="2057400" cy="642600"/>
                <a:chOff x="5410080" y="4343400"/>
                <a:chExt cx="2057400" cy="64260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5410080" y="4648320"/>
                  <a:ext cx="761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6705360" y="4648320"/>
                  <a:ext cx="7621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6173280" y="4343400"/>
                  <a:ext cx="44136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0000"/>
                      </a:solidFill>
                      <a:latin typeface="Times New Roman"/>
                      <a:ea typeface="华文新魏"/>
                    </a:rPr>
                    <a:t>=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5" name=""/>
            <p:cNvSpPr/>
            <p:nvPr/>
          </p:nvSpPr>
          <p:spPr>
            <a:xfrm flipV="1">
              <a:off x="4651920" y="4341240"/>
              <a:ext cx="534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∵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1036800" y="29559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华文新魏"/>
              </a:rPr>
              <a:t>数学符号语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183280" y="30481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华文新魏"/>
              </a:rPr>
              <a:t>数学符号语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" y="54100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平行于三角形一边的直线截其他两边（或两边的延长线），所得的对应线段的比相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" dur="75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75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1080" y="0"/>
            <a:ext cx="9141480" cy="3910320"/>
            <a:chOff x="1080" y="0"/>
            <a:chExt cx="9141480" cy="3910320"/>
          </a:xfrm>
        </p:grpSpPr>
        <p:grpSp>
          <p:nvGrpSpPr>
            <p:cNvPr id="300" name=""/>
            <p:cNvGrpSpPr/>
            <p:nvPr/>
          </p:nvGrpSpPr>
          <p:grpSpPr>
            <a:xfrm>
              <a:off x="6707160" y="0"/>
              <a:ext cx="2435400" cy="3719880"/>
              <a:chOff x="6707160" y="0"/>
              <a:chExt cx="2435400" cy="3719880"/>
            </a:xfrm>
          </p:grpSpPr>
          <p:grpSp>
            <p:nvGrpSpPr>
              <p:cNvPr id="301" name=""/>
              <p:cNvGrpSpPr/>
              <p:nvPr/>
            </p:nvGrpSpPr>
            <p:grpSpPr>
              <a:xfrm>
                <a:off x="7162920" y="533520"/>
                <a:ext cx="1676160" cy="2895480"/>
                <a:chOff x="7162920" y="533520"/>
                <a:chExt cx="1676160" cy="28954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7162920" y="533520"/>
                  <a:ext cx="1676160" cy="2895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bbe0e3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7543800" y="2209680"/>
                  <a:ext cx="914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6707160" y="0"/>
                <a:ext cx="2435400" cy="3719880"/>
                <a:chOff x="6707160" y="0"/>
                <a:chExt cx="2435400" cy="371988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7697520" y="0"/>
                  <a:ext cx="47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华文新魏"/>
                    </a:rPr>
                    <a:t>A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707160" y="313848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华文新魏"/>
                    </a:rPr>
                    <a:t>B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8667720" y="3138480"/>
                  <a:ext cx="47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华文新魏"/>
                    </a:rPr>
                    <a:t>C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7011720" y="1905120"/>
                  <a:ext cx="47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华文新魏"/>
                    </a:rPr>
                    <a:t>D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8383680" y="182880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华文新魏"/>
                    </a:rPr>
                    <a:t>E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0" name=""/>
            <p:cNvGrpSpPr/>
            <p:nvPr/>
          </p:nvGrpSpPr>
          <p:grpSpPr>
            <a:xfrm>
              <a:off x="1080" y="0"/>
              <a:ext cx="6929640" cy="3910320"/>
              <a:chOff x="1080" y="0"/>
              <a:chExt cx="6929640" cy="3910320"/>
            </a:xfrm>
          </p:grpSpPr>
          <p:sp>
            <p:nvSpPr>
              <p:cNvPr id="311" name=""/>
              <p:cNvSpPr/>
              <p:nvPr/>
            </p:nvSpPr>
            <p:spPr>
              <a:xfrm>
                <a:off x="1982160" y="1981080"/>
                <a:ext cx="994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华文新魏"/>
                  </a:rPr>
                  <a:t>——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2" name=""/>
              <p:cNvGrpSpPr/>
              <p:nvPr/>
            </p:nvGrpSpPr>
            <p:grpSpPr>
              <a:xfrm>
                <a:off x="1080" y="0"/>
                <a:ext cx="6929640" cy="3910320"/>
                <a:chOff x="1080" y="0"/>
                <a:chExt cx="6929640" cy="39103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534600" y="1981080"/>
                  <a:ext cx="9946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  <a:ea typeface="华文新魏"/>
                    </a:rPr>
                    <a:t>——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4" name=""/>
                <p:cNvGrpSpPr/>
                <p:nvPr/>
              </p:nvGrpSpPr>
              <p:grpSpPr>
                <a:xfrm>
                  <a:off x="1080" y="0"/>
                  <a:ext cx="6929640" cy="3910320"/>
                  <a:chOff x="1080" y="0"/>
                  <a:chExt cx="6929640" cy="3910320"/>
                </a:xfrm>
              </p:grpSpPr>
              <p:grpSp>
                <p:nvGrpSpPr>
                  <p:cNvPr id="315" name=""/>
                  <p:cNvGrpSpPr/>
                  <p:nvPr/>
                </p:nvGrpSpPr>
                <p:grpSpPr>
                  <a:xfrm>
                    <a:off x="446760" y="0"/>
                    <a:ext cx="1416960" cy="1236960"/>
                    <a:chOff x="446760" y="0"/>
                    <a:chExt cx="1416960" cy="1236960"/>
                  </a:xfrm>
                </p:grpSpPr>
                <p:sp>
                  <p:nvSpPr>
                    <p:cNvPr id="316" name=""/>
                    <p:cNvSpPr/>
                    <p:nvPr/>
                  </p:nvSpPr>
                  <p:spPr>
                    <a:xfrm>
                      <a:off x="446760" y="0"/>
                      <a:ext cx="979200" cy="703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333399"/>
                          </a:solidFill>
                          <a:latin typeface="Times New Roman"/>
                          <a:ea typeface="华文新魏"/>
                        </a:rPr>
                        <a:t>练习一</a:t>
                      </a:r>
                      <a:r>
                        <a:rPr b="1" lang="zh-CN" sz="4000" spc="-1" strike="noStrike">
                          <a:solidFill>
                            <a:srgbClr val="333399"/>
                          </a:solidFill>
                          <a:latin typeface="Times New Roman"/>
                          <a:ea typeface="华文新魏"/>
                        </a:rPr>
                        <a:t>: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782640" y="533520"/>
                      <a:ext cx="1081080" cy="703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1</a:t>
                      </a: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、判断题</a:t>
                      </a: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: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8" name=""/>
                  <p:cNvGrpSpPr/>
                  <p:nvPr/>
                </p:nvGrpSpPr>
                <p:grpSpPr>
                  <a:xfrm>
                    <a:off x="1080" y="1143000"/>
                    <a:ext cx="6929640" cy="2767320"/>
                    <a:chOff x="1080" y="1143000"/>
                    <a:chExt cx="6929640" cy="2767320"/>
                  </a:xfrm>
                </p:grpSpPr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820440" y="1143000"/>
                      <a:ext cx="4499280" cy="581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如图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:DE∥BC,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下列各式是否正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20" name=""/>
                    <p:cNvGrpSpPr/>
                    <p:nvPr/>
                  </p:nvGrpSpPr>
                  <p:grpSpPr>
                    <a:xfrm>
                      <a:off x="1080" y="1828800"/>
                      <a:ext cx="6929640" cy="2081520"/>
                      <a:chOff x="1080" y="1828800"/>
                      <a:chExt cx="6929640" cy="2081520"/>
                    </a:xfrm>
                  </p:grpSpPr>
                  <p:grpSp>
                    <p:nvGrpSpPr>
                      <p:cNvPr id="321" name=""/>
                      <p:cNvGrpSpPr/>
                      <p:nvPr/>
                    </p:nvGrpSpPr>
                    <p:grpSpPr>
                      <a:xfrm>
                        <a:off x="3506400" y="2948040"/>
                        <a:ext cx="3348000" cy="962280"/>
                        <a:chOff x="3506400" y="2948040"/>
                        <a:chExt cx="3348000" cy="962280"/>
                      </a:xfrm>
                    </p:grpSpPr>
                    <p:sp>
                      <p:nvSpPr>
                        <p:cNvPr id="322" name=""/>
                        <p:cNvSpPr/>
                        <p:nvPr/>
                      </p:nvSpPr>
                      <p:spPr>
                        <a:xfrm>
                          <a:off x="3506400" y="3138480"/>
                          <a:ext cx="61056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D:</a:t>
                          </a: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323" name=""/>
                        <p:cNvGrpSpPr/>
                        <p:nvPr/>
                      </p:nvGrpSpPr>
                      <p:grpSpPr>
                        <a:xfrm>
                          <a:off x="4039560" y="2948040"/>
                          <a:ext cx="2289960" cy="962280"/>
                          <a:chOff x="4039560" y="2948040"/>
                          <a:chExt cx="2289960" cy="962280"/>
                        </a:xfrm>
                      </p:grpSpPr>
                      <p:grpSp>
                        <p:nvGrpSpPr>
                          <p:cNvPr id="324" name=""/>
                          <p:cNvGrpSpPr/>
                          <p:nvPr/>
                        </p:nvGrpSpPr>
                        <p:grpSpPr>
                          <a:xfrm>
                            <a:off x="4039560" y="3100320"/>
                            <a:ext cx="2289960" cy="581400"/>
                            <a:chOff x="4039560" y="3100320"/>
                            <a:chExt cx="2289960" cy="581400"/>
                          </a:xfrm>
                        </p:grpSpPr>
                        <p:sp>
                          <p:nvSpPr>
                            <p:cNvPr id="325" name=""/>
                            <p:cNvSpPr/>
                            <p:nvPr/>
                          </p:nvSpPr>
                          <p:spPr>
                            <a:xfrm>
                              <a:off x="5334840" y="3100320"/>
                              <a:ext cx="994680" cy="58140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32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  <a:ea typeface="华文新魏"/>
                                </a:rPr>
                                <a:t>——</a:t>
                              </a:r>
                              <a:endParaRPr b="0" lang="en-US" sz="32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26" name=""/>
                            <p:cNvSpPr/>
                            <p:nvPr/>
                          </p:nvSpPr>
                          <p:spPr>
                            <a:xfrm>
                              <a:off x="4039560" y="3100320"/>
                              <a:ext cx="994680" cy="58140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32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  <a:ea typeface="华文新魏"/>
                                </a:rPr>
                                <a:t>——</a:t>
                              </a:r>
                              <a:endParaRPr b="0" lang="en-US" sz="32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27" name=""/>
                            <p:cNvSpPr/>
                            <p:nvPr/>
                          </p:nvSpPr>
                          <p:spPr>
                            <a:xfrm>
                              <a:off x="4960440" y="3100320"/>
                              <a:ext cx="424440" cy="58140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zh-CN" sz="32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  <a:ea typeface="华文新魏"/>
                                </a:rPr>
                                <a:t>＝</a:t>
                              </a:r>
                              <a:endParaRPr b="0" lang="en-US" sz="32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28" name=""/>
                          <p:cNvSpPr/>
                          <p:nvPr/>
                        </p:nvSpPr>
                        <p:spPr>
                          <a:xfrm>
                            <a:off x="4191840" y="2948040"/>
                            <a:ext cx="768960" cy="5814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3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  <a:ea typeface="华文新魏"/>
                              </a:rPr>
                              <a:t>AD</a:t>
                            </a:r>
                            <a:endParaRPr b="0" lang="en-US" sz="3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9" name=""/>
                          <p:cNvSpPr/>
                          <p:nvPr/>
                        </p:nvSpPr>
                        <p:spPr>
                          <a:xfrm>
                            <a:off x="4192200" y="3328920"/>
                            <a:ext cx="746280" cy="5814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3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  <a:ea typeface="华文新魏"/>
                              </a:rPr>
                              <a:t>AE</a:t>
                            </a:r>
                            <a:endParaRPr b="0" lang="en-US" sz="3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0" name=""/>
                          <p:cNvSpPr/>
                          <p:nvPr/>
                        </p:nvSpPr>
                        <p:spPr>
                          <a:xfrm>
                            <a:off x="5487840" y="2948040"/>
                            <a:ext cx="746280" cy="5814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3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  <a:ea typeface="华文新魏"/>
                              </a:rPr>
                              <a:t>AB</a:t>
                            </a:r>
                            <a:endParaRPr b="0" lang="en-US" sz="3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31" name=""/>
                          <p:cNvSpPr/>
                          <p:nvPr/>
                        </p:nvSpPr>
                        <p:spPr>
                          <a:xfrm>
                            <a:off x="5487480" y="3328920"/>
                            <a:ext cx="768960" cy="5814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3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  <a:ea typeface="华文新魏"/>
                              </a:rPr>
                              <a:t>AC</a:t>
                            </a:r>
                            <a:endParaRPr b="0" lang="en-US" sz="3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32" name=""/>
                        <p:cNvSpPr/>
                        <p:nvPr/>
                      </p:nvSpPr>
                      <p:spPr>
                        <a:xfrm>
                          <a:off x="6096240" y="3138480"/>
                          <a:ext cx="75816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(   )</a:t>
                          </a: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33" name=""/>
                      <p:cNvGrpSpPr/>
                      <p:nvPr/>
                    </p:nvGrpSpPr>
                    <p:grpSpPr>
                      <a:xfrm>
                        <a:off x="1080" y="2948040"/>
                        <a:ext cx="3500640" cy="962280"/>
                        <a:chOff x="1080" y="2948040"/>
                        <a:chExt cx="3500640" cy="962280"/>
                      </a:xfrm>
                    </p:grpSpPr>
                    <p:sp>
                      <p:nvSpPr>
                        <p:cNvPr id="334" name=""/>
                        <p:cNvSpPr/>
                        <p:nvPr/>
                      </p:nvSpPr>
                      <p:spPr>
                        <a:xfrm>
                          <a:off x="1080" y="3138480"/>
                          <a:ext cx="61056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C:</a:t>
                          </a: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335" name=""/>
                        <p:cNvGrpSpPr/>
                        <p:nvPr/>
                      </p:nvGrpSpPr>
                      <p:grpSpPr>
                        <a:xfrm>
                          <a:off x="458280" y="2948040"/>
                          <a:ext cx="2289960" cy="962280"/>
                          <a:chOff x="458280" y="2948040"/>
                          <a:chExt cx="2289960" cy="962280"/>
                        </a:xfrm>
                      </p:grpSpPr>
                      <p:grpSp>
                        <p:nvGrpSpPr>
                          <p:cNvPr id="336" name=""/>
                          <p:cNvGrpSpPr/>
                          <p:nvPr/>
                        </p:nvGrpSpPr>
                        <p:grpSpPr>
                          <a:xfrm>
                            <a:off x="458280" y="3100320"/>
                            <a:ext cx="2289960" cy="581400"/>
                            <a:chOff x="458280" y="3100320"/>
                            <a:chExt cx="2289960" cy="581400"/>
                          </a:xfrm>
                        </p:grpSpPr>
                        <p:sp>
                          <p:nvSpPr>
                            <p:cNvPr id="337" name=""/>
                            <p:cNvSpPr/>
                            <p:nvPr/>
                          </p:nvSpPr>
                          <p:spPr>
                            <a:xfrm>
                              <a:off x="1753560" y="3100320"/>
                              <a:ext cx="994680" cy="58140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32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  <a:ea typeface="华文新魏"/>
                                </a:rPr>
                                <a:t>——</a:t>
                              </a:r>
                              <a:endParaRPr b="0" lang="en-US" sz="32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38" name=""/>
                            <p:cNvSpPr/>
                            <p:nvPr/>
                          </p:nvSpPr>
                          <p:spPr>
                            <a:xfrm>
                              <a:off x="458280" y="3100320"/>
                              <a:ext cx="994680" cy="58140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32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  <a:ea typeface="华文新魏"/>
                                </a:rPr>
                                <a:t>——</a:t>
                              </a:r>
                              <a:endParaRPr b="0" lang="en-US" sz="32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39" name=""/>
                            <p:cNvSpPr/>
                            <p:nvPr/>
                          </p:nvSpPr>
                          <p:spPr>
                            <a:xfrm>
                              <a:off x="1379160" y="3100320"/>
                              <a:ext cx="424440" cy="58140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zh-CN" sz="32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  <a:ea typeface="华文新魏"/>
                                </a:rPr>
                                <a:t>＝</a:t>
                              </a:r>
                              <a:endParaRPr b="0" lang="en-US" sz="32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40" name=""/>
                          <p:cNvSpPr/>
                          <p:nvPr/>
                        </p:nvSpPr>
                        <p:spPr>
                          <a:xfrm>
                            <a:off x="610560" y="2948040"/>
                            <a:ext cx="768960" cy="5814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3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  <a:ea typeface="华文新魏"/>
                              </a:rPr>
                              <a:t>AD</a:t>
                            </a:r>
                            <a:endParaRPr b="0" lang="en-US" sz="3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1" name=""/>
                          <p:cNvSpPr/>
                          <p:nvPr/>
                        </p:nvSpPr>
                        <p:spPr>
                          <a:xfrm>
                            <a:off x="610560" y="3328920"/>
                            <a:ext cx="768960" cy="5814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3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  <a:ea typeface="华文新魏"/>
                              </a:rPr>
                              <a:t>AC</a:t>
                            </a:r>
                            <a:endParaRPr b="0" lang="en-US" sz="3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2" name=""/>
                          <p:cNvSpPr/>
                          <p:nvPr/>
                        </p:nvSpPr>
                        <p:spPr>
                          <a:xfrm>
                            <a:off x="1906560" y="2948040"/>
                            <a:ext cx="746280" cy="5814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3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  <a:ea typeface="华文新魏"/>
                              </a:rPr>
                              <a:t>AE</a:t>
                            </a:r>
                            <a:endParaRPr b="0" lang="en-US" sz="3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3" name=""/>
                          <p:cNvSpPr/>
                          <p:nvPr/>
                        </p:nvSpPr>
                        <p:spPr>
                          <a:xfrm>
                            <a:off x="1906560" y="3328920"/>
                            <a:ext cx="746280" cy="5814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3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  <a:ea typeface="华文新魏"/>
                              </a:rPr>
                              <a:t>AB</a:t>
                            </a:r>
                            <a:endParaRPr b="0" lang="en-US" sz="3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44" name=""/>
                        <p:cNvSpPr/>
                        <p:nvPr/>
                      </p:nvSpPr>
                      <p:spPr>
                        <a:xfrm>
                          <a:off x="2743560" y="3138480"/>
                          <a:ext cx="75816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(   )</a:t>
                          </a: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45" name=""/>
                      <p:cNvGrpSpPr/>
                      <p:nvPr/>
                    </p:nvGrpSpPr>
                    <p:grpSpPr>
                      <a:xfrm>
                        <a:off x="3506760" y="1828800"/>
                        <a:ext cx="3423960" cy="962280"/>
                        <a:chOff x="3506760" y="1828800"/>
                        <a:chExt cx="3423960" cy="962280"/>
                      </a:xfrm>
                    </p:grpSpPr>
                    <p:sp>
                      <p:nvSpPr>
                        <p:cNvPr id="346" name=""/>
                        <p:cNvSpPr/>
                        <p:nvPr/>
                      </p:nvSpPr>
                      <p:spPr>
                        <a:xfrm>
                          <a:off x="3506760" y="1981080"/>
                          <a:ext cx="58752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B:</a:t>
                          </a: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347" name=""/>
                        <p:cNvGrpSpPr/>
                        <p:nvPr/>
                      </p:nvGrpSpPr>
                      <p:grpSpPr>
                        <a:xfrm>
                          <a:off x="4115880" y="1981080"/>
                          <a:ext cx="2289960" cy="581400"/>
                          <a:chOff x="4115880" y="1981080"/>
                          <a:chExt cx="2289960" cy="581400"/>
                        </a:xfrm>
                      </p:grpSpPr>
                      <p:sp>
                        <p:nvSpPr>
                          <p:cNvPr id="348" name=""/>
                          <p:cNvSpPr/>
                          <p:nvPr/>
                        </p:nvSpPr>
                        <p:spPr>
                          <a:xfrm>
                            <a:off x="5411160" y="1981080"/>
                            <a:ext cx="994680" cy="5814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3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  <a:ea typeface="华文新魏"/>
                              </a:rPr>
                              <a:t>——</a:t>
                            </a:r>
                            <a:endParaRPr b="0" lang="en-US" sz="3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49" name=""/>
                          <p:cNvSpPr/>
                          <p:nvPr/>
                        </p:nvSpPr>
                        <p:spPr>
                          <a:xfrm>
                            <a:off x="4115880" y="1981080"/>
                            <a:ext cx="994680" cy="5814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en-US" sz="3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  <a:ea typeface="华文新魏"/>
                              </a:rPr>
                              <a:t>——</a:t>
                            </a:r>
                            <a:endParaRPr b="0" lang="en-US" sz="3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50" name=""/>
                          <p:cNvSpPr/>
                          <p:nvPr/>
                        </p:nvSpPr>
                        <p:spPr>
                          <a:xfrm>
                            <a:off x="5036760" y="1981080"/>
                            <a:ext cx="424440" cy="58140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t">
                            <a:spAutoFit/>
                          </a:bodyPr>
                          <a:p>
                            <a:pPr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1" lang="zh-CN" sz="32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  <a:ea typeface="华文新魏"/>
                              </a:rPr>
                              <a:t>＝</a:t>
                            </a:r>
                            <a:endParaRPr b="0" lang="en-US" sz="32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51" name=""/>
                        <p:cNvSpPr/>
                        <p:nvPr/>
                      </p:nvSpPr>
                      <p:spPr>
                        <a:xfrm>
                          <a:off x="4198320" y="1828800"/>
                          <a:ext cx="76896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AD</a:t>
                          </a: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2" name=""/>
                        <p:cNvSpPr/>
                        <p:nvPr/>
                      </p:nvSpPr>
                      <p:spPr>
                        <a:xfrm>
                          <a:off x="4198680" y="2209680"/>
                          <a:ext cx="74628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BD</a:t>
                          </a: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3" name=""/>
                        <p:cNvSpPr/>
                        <p:nvPr/>
                      </p:nvSpPr>
                      <p:spPr>
                        <a:xfrm>
                          <a:off x="5564160" y="1828800"/>
                          <a:ext cx="74628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AE</a:t>
                          </a: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4" name=""/>
                        <p:cNvSpPr/>
                        <p:nvPr/>
                      </p:nvSpPr>
                      <p:spPr>
                        <a:xfrm>
                          <a:off x="5564160" y="2209680"/>
                          <a:ext cx="74628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CE</a:t>
                          </a: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5" name=""/>
                        <p:cNvSpPr/>
                        <p:nvPr/>
                      </p:nvSpPr>
                      <p:spPr>
                        <a:xfrm>
                          <a:off x="6172560" y="1981080"/>
                          <a:ext cx="75816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(   )</a:t>
                          </a: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56" name=""/>
                      <p:cNvGrpSpPr/>
                      <p:nvPr/>
                    </p:nvGrpSpPr>
                    <p:grpSpPr>
                      <a:xfrm>
                        <a:off x="1080" y="1828800"/>
                        <a:ext cx="3652920" cy="962280"/>
                        <a:chOff x="1080" y="1828800"/>
                        <a:chExt cx="3652920" cy="962280"/>
                      </a:xfrm>
                    </p:grpSpPr>
                    <p:sp>
                      <p:nvSpPr>
                        <p:cNvPr id="357" name=""/>
                        <p:cNvSpPr/>
                        <p:nvPr/>
                      </p:nvSpPr>
                      <p:spPr>
                        <a:xfrm>
                          <a:off x="1080" y="1905120"/>
                          <a:ext cx="61056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A:</a:t>
                          </a: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8" name=""/>
                        <p:cNvSpPr/>
                        <p:nvPr/>
                      </p:nvSpPr>
                      <p:spPr>
                        <a:xfrm>
                          <a:off x="686880" y="1828800"/>
                          <a:ext cx="76896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AD</a:t>
                          </a: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9" name=""/>
                        <p:cNvSpPr/>
                        <p:nvPr/>
                      </p:nvSpPr>
                      <p:spPr>
                        <a:xfrm>
                          <a:off x="687240" y="2209680"/>
                          <a:ext cx="74628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AB</a:t>
                          </a: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0" name=""/>
                        <p:cNvSpPr/>
                        <p:nvPr/>
                      </p:nvSpPr>
                      <p:spPr>
                        <a:xfrm>
                          <a:off x="1531440" y="1981080"/>
                          <a:ext cx="42444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＝</a:t>
                          </a: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1" name=""/>
                        <p:cNvSpPr/>
                        <p:nvPr/>
                      </p:nvSpPr>
                      <p:spPr>
                        <a:xfrm>
                          <a:off x="2058840" y="1828800"/>
                          <a:ext cx="74628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AE</a:t>
                          </a: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2" name=""/>
                        <p:cNvSpPr/>
                        <p:nvPr/>
                      </p:nvSpPr>
                      <p:spPr>
                        <a:xfrm>
                          <a:off x="2058480" y="2209680"/>
                          <a:ext cx="76896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AC</a:t>
                          </a: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3" name=""/>
                        <p:cNvSpPr/>
                        <p:nvPr/>
                      </p:nvSpPr>
                      <p:spPr>
                        <a:xfrm>
                          <a:off x="2895840" y="2057400"/>
                          <a:ext cx="758160" cy="5814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3200" spc="-1" strike="noStrike">
                              <a:solidFill>
                                <a:srgbClr val="000000"/>
                              </a:solidFill>
                              <a:latin typeface="Times New Roman"/>
                              <a:ea typeface="华文新魏"/>
                            </a:rPr>
                            <a:t>(   )</a:t>
                          </a: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</p:grpSp>
      </p:grpSp>
      <p:grpSp>
        <p:nvGrpSpPr>
          <p:cNvPr id="364" name=""/>
          <p:cNvGrpSpPr/>
          <p:nvPr/>
        </p:nvGrpSpPr>
        <p:grpSpPr>
          <a:xfrm>
            <a:off x="2949120" y="3188880"/>
            <a:ext cx="327240" cy="430560"/>
            <a:chOff x="2949120" y="3188880"/>
            <a:chExt cx="327240" cy="430560"/>
          </a:xfrm>
        </p:grpSpPr>
        <p:sp>
          <p:nvSpPr>
            <p:cNvPr id="365" name=""/>
            <p:cNvSpPr/>
            <p:nvPr/>
          </p:nvSpPr>
          <p:spPr>
            <a:xfrm>
              <a:off x="2971800" y="3238560"/>
              <a:ext cx="304560" cy="3808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2949120" y="3188880"/>
              <a:ext cx="273600" cy="40392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6248520" y="3276720"/>
            <a:ext cx="609480" cy="406440"/>
          </a:xfrm>
          <a:custGeom>
            <a:avLst/>
            <a:gdLst/>
            <a:ahLst/>
            <a:rect l="l" t="t" r="r" b="b"/>
            <a:pathLst>
              <a:path w="384" h="256">
                <a:moveTo>
                  <a:pt x="0" y="96"/>
                </a:moveTo>
                <a:cubicBezTo>
                  <a:pt x="40" y="176"/>
                  <a:pt x="80" y="256"/>
                  <a:pt x="144" y="240"/>
                </a:cubicBezTo>
                <a:cubicBezTo>
                  <a:pt x="208" y="224"/>
                  <a:pt x="344" y="40"/>
                  <a:pt x="384" y="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324480" y="2057400"/>
            <a:ext cx="609840" cy="406440"/>
          </a:xfrm>
          <a:custGeom>
            <a:avLst/>
            <a:gdLst/>
            <a:ahLst/>
            <a:rect l="l" t="t" r="r" b="b"/>
            <a:pathLst>
              <a:path w="384" h="256">
                <a:moveTo>
                  <a:pt x="0" y="96"/>
                </a:moveTo>
                <a:cubicBezTo>
                  <a:pt x="40" y="176"/>
                  <a:pt x="80" y="256"/>
                  <a:pt x="144" y="240"/>
                </a:cubicBezTo>
                <a:cubicBezTo>
                  <a:pt x="208" y="224"/>
                  <a:pt x="344" y="40"/>
                  <a:pt x="384" y="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048120" y="2133720"/>
            <a:ext cx="609480" cy="406440"/>
          </a:xfrm>
          <a:custGeom>
            <a:avLst/>
            <a:gdLst/>
            <a:ahLst/>
            <a:rect l="l" t="t" r="r" b="b"/>
            <a:pathLst>
              <a:path w="384" h="256">
                <a:moveTo>
                  <a:pt x="0" y="96"/>
                </a:moveTo>
                <a:cubicBezTo>
                  <a:pt x="40" y="176"/>
                  <a:pt x="80" y="256"/>
                  <a:pt x="144" y="240"/>
                </a:cubicBezTo>
                <a:cubicBezTo>
                  <a:pt x="208" y="224"/>
                  <a:pt x="344" y="40"/>
                  <a:pt x="384" y="0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669360" y="3809880"/>
            <a:ext cx="2472120" cy="2638800"/>
            <a:chOff x="6669360" y="3809880"/>
            <a:chExt cx="2472120" cy="2638800"/>
          </a:xfrm>
        </p:grpSpPr>
        <p:grpSp>
          <p:nvGrpSpPr>
            <p:cNvPr id="371" name=""/>
            <p:cNvGrpSpPr/>
            <p:nvPr/>
          </p:nvGrpSpPr>
          <p:grpSpPr>
            <a:xfrm>
              <a:off x="6934320" y="4114800"/>
              <a:ext cx="1752480" cy="2209680"/>
              <a:chOff x="6934320" y="4114800"/>
              <a:chExt cx="1752480" cy="2209680"/>
            </a:xfrm>
          </p:grpSpPr>
          <p:sp>
            <p:nvSpPr>
              <p:cNvPr id="372" name=""/>
              <p:cNvSpPr/>
              <p:nvPr/>
            </p:nvSpPr>
            <p:spPr>
              <a:xfrm>
                <a:off x="6934320" y="4800600"/>
                <a:ext cx="1752480" cy="1523880"/>
              </a:xfrm>
              <a:prstGeom prst="triangle">
                <a:avLst>
                  <a:gd name="adj" fmla="val 50000"/>
                </a:avLst>
              </a:prstGeom>
              <a:solidFill>
                <a:srgbClr val="f1034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467480" y="4114800"/>
                <a:ext cx="685440" cy="685800"/>
              </a:xfrm>
              <a:prstGeom prst="flowChartMerge">
                <a:avLst/>
              </a:prstGeom>
              <a:solidFill>
                <a:srgbClr val="f1034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6669360" y="3809880"/>
              <a:ext cx="2472120" cy="2638800"/>
              <a:chOff x="6669360" y="3809880"/>
              <a:chExt cx="2472120" cy="2638800"/>
            </a:xfrm>
          </p:grpSpPr>
          <p:sp>
            <p:nvSpPr>
              <p:cNvPr id="375" name=""/>
              <p:cNvSpPr/>
              <p:nvPr/>
            </p:nvSpPr>
            <p:spPr>
              <a:xfrm>
                <a:off x="7365600" y="44956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669360" y="5867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8689320" y="58672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097760" y="38098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8191080" y="380988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0" name=""/>
          <p:cNvGrpSpPr/>
          <p:nvPr/>
        </p:nvGrpSpPr>
        <p:grpSpPr>
          <a:xfrm>
            <a:off x="116640" y="3733920"/>
            <a:ext cx="5981400" cy="2562480"/>
            <a:chOff x="116640" y="3733920"/>
            <a:chExt cx="5981400" cy="2562480"/>
          </a:xfrm>
        </p:grpSpPr>
        <p:sp>
          <p:nvSpPr>
            <p:cNvPr id="381" name=""/>
            <p:cNvSpPr/>
            <p:nvPr/>
          </p:nvSpPr>
          <p:spPr>
            <a:xfrm>
              <a:off x="934920" y="3733920"/>
              <a:ext cx="108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2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、填空题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89080" y="4343400"/>
              <a:ext cx="234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如图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:DE∥BC,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16640" y="4876920"/>
              <a:ext cx="90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已知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839160" y="5181480"/>
              <a:ext cx="2208600" cy="1114920"/>
              <a:chOff x="839160" y="5181480"/>
              <a:chExt cx="2208600" cy="1114920"/>
            </a:xfrm>
          </p:grpSpPr>
          <p:sp>
            <p:nvSpPr>
              <p:cNvPr id="385" name=""/>
              <p:cNvSpPr/>
              <p:nvPr/>
            </p:nvSpPr>
            <p:spPr>
              <a:xfrm>
                <a:off x="2285640" y="5181480"/>
                <a:ext cx="762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华文新魏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6" name=""/>
              <p:cNvGrpSpPr/>
              <p:nvPr/>
            </p:nvGrpSpPr>
            <p:grpSpPr>
              <a:xfrm>
                <a:off x="839160" y="5257800"/>
                <a:ext cx="2208600" cy="1038600"/>
                <a:chOff x="839160" y="5257800"/>
                <a:chExt cx="2208600" cy="103860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1836360" y="5410440"/>
                  <a:ext cx="424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Times New Roman"/>
                      <a:ea typeface="华文新魏"/>
                    </a:rPr>
                    <a:t>＝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8" name=""/>
                <p:cNvGrpSpPr/>
                <p:nvPr/>
              </p:nvGrpSpPr>
              <p:grpSpPr>
                <a:xfrm>
                  <a:off x="839160" y="5257800"/>
                  <a:ext cx="994680" cy="962640"/>
                  <a:chOff x="839160" y="5257800"/>
                  <a:chExt cx="994680" cy="96264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>
                    <a:off x="839160" y="5410440"/>
                    <a:ext cx="99468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Times New Roman"/>
                        <a:ea typeface="华文新魏"/>
                      </a:rPr>
                      <a:t>——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90" name=""/>
                  <p:cNvGrpSpPr/>
                  <p:nvPr/>
                </p:nvGrpSpPr>
                <p:grpSpPr>
                  <a:xfrm>
                    <a:off x="915840" y="5257800"/>
                    <a:ext cx="768960" cy="962640"/>
                    <a:chOff x="915840" y="5257800"/>
                    <a:chExt cx="768960" cy="962640"/>
                  </a:xfrm>
                </p:grpSpPr>
                <p:sp>
                  <p:nvSpPr>
                    <p:cNvPr id="391" name=""/>
                    <p:cNvSpPr/>
                    <p:nvPr/>
                  </p:nvSpPr>
                  <p:spPr>
                    <a:xfrm flipH="1">
                      <a:off x="937800" y="5257800"/>
                      <a:ext cx="746280" cy="581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A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"/>
                    <p:cNvSpPr/>
                    <p:nvPr/>
                  </p:nvSpPr>
                  <p:spPr>
                    <a:xfrm flipH="1">
                      <a:off x="915840" y="5639040"/>
                      <a:ext cx="768960" cy="581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A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2211120" y="5410440"/>
                  <a:ext cx="836640" cy="885960"/>
                  <a:chOff x="2211120" y="5410440"/>
                  <a:chExt cx="836640" cy="885960"/>
                </a:xfrm>
              </p:grpSpPr>
              <p:sp>
                <p:nvSpPr>
                  <p:cNvPr id="394" name=""/>
                  <p:cNvSpPr/>
                  <p:nvPr/>
                </p:nvSpPr>
                <p:spPr>
                  <a:xfrm>
                    <a:off x="2211120" y="5410440"/>
                    <a:ext cx="58752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Times New Roman"/>
                        <a:ea typeface="华文新魏"/>
                      </a:rPr>
                      <a:t>—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2286000" y="5715000"/>
                    <a:ext cx="76176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Times New Roman"/>
                        <a:ea typeface="华文新魏"/>
                      </a:rPr>
                      <a:t>5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96" name=""/>
            <p:cNvGrpSpPr/>
            <p:nvPr/>
          </p:nvGrpSpPr>
          <p:grpSpPr>
            <a:xfrm>
              <a:off x="3079800" y="4876920"/>
              <a:ext cx="3018240" cy="1112760"/>
              <a:chOff x="3079800" y="4876920"/>
              <a:chExt cx="3018240" cy="1112760"/>
            </a:xfrm>
          </p:grpSpPr>
          <p:grpSp>
            <p:nvGrpSpPr>
              <p:cNvPr id="397" name=""/>
              <p:cNvGrpSpPr/>
              <p:nvPr/>
            </p:nvGrpSpPr>
            <p:grpSpPr>
              <a:xfrm>
                <a:off x="3731760" y="4876920"/>
                <a:ext cx="2208600" cy="1112760"/>
                <a:chOff x="3731760" y="4876920"/>
                <a:chExt cx="2208600" cy="111276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5178600" y="4876920"/>
                  <a:ext cx="76176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99" name=""/>
                <p:cNvGrpSpPr/>
                <p:nvPr/>
              </p:nvGrpSpPr>
              <p:grpSpPr>
                <a:xfrm>
                  <a:off x="3731760" y="4952880"/>
                  <a:ext cx="2208600" cy="1036800"/>
                  <a:chOff x="3731760" y="4952880"/>
                  <a:chExt cx="2208600" cy="1036800"/>
                </a:xfrm>
              </p:grpSpPr>
              <p:sp>
                <p:nvSpPr>
                  <p:cNvPr id="400" name=""/>
                  <p:cNvSpPr/>
                  <p:nvPr/>
                </p:nvSpPr>
                <p:spPr>
                  <a:xfrm>
                    <a:off x="4728960" y="5105520"/>
                    <a:ext cx="42444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3200" spc="-1" strike="noStrike">
                        <a:solidFill>
                          <a:srgbClr val="000000"/>
                        </a:solidFill>
                        <a:latin typeface="Times New Roman"/>
                        <a:ea typeface="华文新魏"/>
                      </a:rPr>
                      <a:t>＝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3731760" y="4952880"/>
                    <a:ext cx="994680" cy="962640"/>
                    <a:chOff x="3731760" y="4952880"/>
                    <a:chExt cx="994680" cy="96264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3731760" y="5105520"/>
                      <a:ext cx="994680" cy="581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华文新魏"/>
                        </a:rPr>
                        <a:t>—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03" name=""/>
                    <p:cNvGrpSpPr/>
                    <p:nvPr/>
                  </p:nvGrpSpPr>
                  <p:grpSpPr>
                    <a:xfrm>
                      <a:off x="3808440" y="4952880"/>
                      <a:ext cx="768960" cy="962640"/>
                      <a:chOff x="3808440" y="4952880"/>
                      <a:chExt cx="768960" cy="962640"/>
                    </a:xfrm>
                  </p:grpSpPr>
                  <p:sp>
                    <p:nvSpPr>
                      <p:cNvPr id="404" name=""/>
                      <p:cNvSpPr/>
                      <p:nvPr/>
                    </p:nvSpPr>
                    <p:spPr>
                      <a:xfrm flipH="1">
                        <a:off x="3808440" y="4952880"/>
                        <a:ext cx="768960" cy="581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华文新魏"/>
                          </a:rPr>
                          <a:t>AD</a:t>
                        </a:r>
                        <a:endParaRPr b="0" lang="en-US" sz="3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5" name=""/>
                      <p:cNvSpPr/>
                      <p:nvPr/>
                    </p:nvSpPr>
                    <p:spPr>
                      <a:xfrm flipH="1">
                        <a:off x="3830400" y="5334120"/>
                        <a:ext cx="746280" cy="581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3200" spc="-1" strike="noStrike">
                            <a:solidFill>
                              <a:srgbClr val="000000"/>
                            </a:solidFill>
                            <a:latin typeface="Times New Roman"/>
                            <a:ea typeface="华文新魏"/>
                          </a:rPr>
                          <a:t>AB</a:t>
                        </a:r>
                        <a:endParaRPr b="0" lang="en-US" sz="3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06" name=""/>
                  <p:cNvGrpSpPr/>
                  <p:nvPr/>
                </p:nvGrpSpPr>
                <p:grpSpPr>
                  <a:xfrm>
                    <a:off x="5102280" y="5116680"/>
                    <a:ext cx="838080" cy="873000"/>
                    <a:chOff x="5102280" y="5116680"/>
                    <a:chExt cx="838080" cy="873000"/>
                  </a:xfrm>
                </p:grpSpPr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5102280" y="5116680"/>
                      <a:ext cx="184320" cy="579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5178600" y="5410080"/>
                      <a:ext cx="761760" cy="579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409" name=""/>
              <p:cNvSpPr/>
              <p:nvPr/>
            </p:nvSpPr>
            <p:spPr>
              <a:xfrm>
                <a:off x="3079800" y="5029200"/>
                <a:ext cx="657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华文新魏"/>
                  </a:rPr>
                  <a:t>求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华文新魏"/>
                  </a:rPr>
                  <a:t>: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103360" y="5334120"/>
                <a:ext cx="994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华文新魏"/>
                  </a:rPr>
                  <a:t>——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1" name=""/>
          <p:cNvGrpSpPr/>
          <p:nvPr/>
        </p:nvGrpSpPr>
        <p:grpSpPr>
          <a:xfrm>
            <a:off x="3809880" y="4724280"/>
            <a:ext cx="2224080" cy="1114920"/>
            <a:chOff x="3809880" y="4724280"/>
            <a:chExt cx="2224080" cy="1114920"/>
          </a:xfrm>
        </p:grpSpPr>
        <p:sp>
          <p:nvSpPr>
            <p:cNvPr id="412" name=""/>
            <p:cNvSpPr/>
            <p:nvPr/>
          </p:nvSpPr>
          <p:spPr>
            <a:xfrm>
              <a:off x="5271840" y="47242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Times New Roman"/>
                  <a:ea typeface="华文新魏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3809880" y="4811760"/>
              <a:ext cx="2224080" cy="1027440"/>
              <a:chOff x="3809880" y="4811760"/>
              <a:chExt cx="2224080" cy="1027440"/>
            </a:xfrm>
          </p:grpSpPr>
          <p:sp>
            <p:nvSpPr>
              <p:cNvPr id="414" name=""/>
              <p:cNvSpPr/>
              <p:nvPr/>
            </p:nvSpPr>
            <p:spPr>
              <a:xfrm>
                <a:off x="4724280" y="4953240"/>
                <a:ext cx="18432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5" name=""/>
              <p:cNvGrpSpPr/>
              <p:nvPr/>
            </p:nvGrpSpPr>
            <p:grpSpPr>
              <a:xfrm>
                <a:off x="3809880" y="4811760"/>
                <a:ext cx="260640" cy="960480"/>
                <a:chOff x="3809880" y="4811760"/>
                <a:chExt cx="260640" cy="96048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3809880" y="4964400"/>
                  <a:ext cx="18432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17" name=""/>
                <p:cNvGrpSpPr/>
                <p:nvPr/>
              </p:nvGrpSpPr>
              <p:grpSpPr>
                <a:xfrm>
                  <a:off x="3886920" y="4811760"/>
                  <a:ext cx="183600" cy="960480"/>
                  <a:chOff x="3886920" y="4811760"/>
                  <a:chExt cx="183600" cy="96048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 flipH="1">
                    <a:off x="3886920" y="4811760"/>
                    <a:ext cx="183600" cy="579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flipH="1">
                    <a:off x="3886920" y="5193000"/>
                    <a:ext cx="183600" cy="57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0" name=""/>
              <p:cNvGrpSpPr/>
              <p:nvPr/>
            </p:nvGrpSpPr>
            <p:grpSpPr>
              <a:xfrm>
                <a:off x="5197320" y="4953240"/>
                <a:ext cx="836640" cy="885960"/>
                <a:chOff x="5197320" y="4953240"/>
                <a:chExt cx="836640" cy="88596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5197320" y="4953240"/>
                  <a:ext cx="587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0066"/>
                      </a:solidFill>
                      <a:latin typeface="Times New Roman"/>
                      <a:ea typeface="华文新魏"/>
                    </a:rPr>
                    <a:t>—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272200" y="5257800"/>
                  <a:ext cx="761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0066"/>
                      </a:solidFill>
                      <a:latin typeface="Times New Roman"/>
                      <a:ea typeface="华文新魏"/>
                    </a:rPr>
                    <a:t>5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"/>
          <p:cNvGrpSpPr/>
          <p:nvPr/>
        </p:nvGrpSpPr>
        <p:grpSpPr>
          <a:xfrm>
            <a:off x="-609480" y="0"/>
            <a:ext cx="9275760" cy="5244840"/>
            <a:chOff x="-609480" y="0"/>
            <a:chExt cx="9275760" cy="5244840"/>
          </a:xfrm>
        </p:grpSpPr>
        <p:grpSp>
          <p:nvGrpSpPr>
            <p:cNvPr id="424" name=""/>
            <p:cNvGrpSpPr/>
            <p:nvPr/>
          </p:nvGrpSpPr>
          <p:grpSpPr>
            <a:xfrm>
              <a:off x="-609480" y="0"/>
              <a:ext cx="9275760" cy="5244840"/>
              <a:chOff x="-609480" y="0"/>
              <a:chExt cx="9275760" cy="5244840"/>
            </a:xfrm>
          </p:grpSpPr>
          <p:grpSp>
            <p:nvGrpSpPr>
              <p:cNvPr id="425" name=""/>
              <p:cNvGrpSpPr/>
              <p:nvPr/>
            </p:nvGrpSpPr>
            <p:grpSpPr>
              <a:xfrm>
                <a:off x="4878360" y="457200"/>
                <a:ext cx="3787920" cy="4787640"/>
                <a:chOff x="4878360" y="457200"/>
                <a:chExt cx="3787920" cy="4787640"/>
              </a:xfrm>
            </p:grpSpPr>
            <p:grpSp>
              <p:nvGrpSpPr>
                <p:cNvPr id="426" name=""/>
                <p:cNvGrpSpPr/>
                <p:nvPr/>
              </p:nvGrpSpPr>
              <p:grpSpPr>
                <a:xfrm>
                  <a:off x="4878360" y="457200"/>
                  <a:ext cx="3787920" cy="4787640"/>
                  <a:chOff x="4878360" y="457200"/>
                  <a:chExt cx="3787920" cy="4787640"/>
                </a:xfrm>
              </p:grpSpPr>
              <p:sp>
                <p:nvSpPr>
                  <p:cNvPr id="427" name=""/>
                  <p:cNvSpPr/>
                  <p:nvPr/>
                </p:nvSpPr>
                <p:spPr>
                  <a:xfrm>
                    <a:off x="7478640" y="457200"/>
                    <a:ext cx="587520" cy="825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48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A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5335560" y="3429000"/>
                    <a:ext cx="587520" cy="825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48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B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7926120" y="3429000"/>
                    <a:ext cx="587520" cy="825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48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C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4878360" y="4343400"/>
                    <a:ext cx="621000" cy="825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48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D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8078760" y="4419720"/>
                    <a:ext cx="587520" cy="825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48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E</a:t>
                    </a:r>
                    <a:endParaRPr b="0" lang="en-US" sz="4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2" name=""/>
                <p:cNvSpPr/>
                <p:nvPr/>
              </p:nvSpPr>
              <p:spPr>
                <a:xfrm>
                  <a:off x="5486400" y="838080"/>
                  <a:ext cx="2575080" cy="4044960"/>
                </a:xfrm>
                <a:custGeom>
                  <a:avLst/>
                  <a:gdLst/>
                  <a:ahLst/>
                  <a:rect l="l" t="t" r="r" b="b"/>
                  <a:pathLst>
                    <a:path w="2448" h="2976">
                      <a:moveTo>
                        <a:pt x="1248" y="864"/>
                      </a:moveTo>
                      <a:lnTo>
                        <a:pt x="0" y="2976"/>
                      </a:lnTo>
                      <a:lnTo>
                        <a:pt x="2448" y="2976"/>
                      </a:lnTo>
                      <a:lnTo>
                        <a:pt x="1728" y="0"/>
                      </a:lnTo>
                      <a:lnTo>
                        <a:pt x="1248" y="864"/>
                      </a:lnTo>
                      <a:close/>
                    </a:path>
                  </a:pathLst>
                </a:custGeom>
                <a:solidFill>
                  <a:srgbClr val="ff0066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3" name="">
                <a:hlinkClick r:id="rId1" action="ppaction://hlinksldjump"/>
              </p:cNvPr>
              <p:cNvSpPr/>
              <p:nvPr/>
            </p:nvSpPr>
            <p:spPr>
              <a:xfrm>
                <a:off x="500760" y="914400"/>
                <a:ext cx="50040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已知：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DE//BC, AB=15,AC=9,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BD=4 .       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求：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AE=</a:t>
                </a:r>
                <a:r>
                  <a:rPr b="1" lang="zh-CN" sz="3200" spc="-1" strike="noStrike">
                    <a:solidFill>
                      <a:srgbClr val="ff00ff"/>
                    </a:solidFill>
                    <a:latin typeface="Times New Roman"/>
                  </a:rPr>
                  <a:t>?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-609480" y="0"/>
                <a:ext cx="25905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-1" strike="noStrike">
                    <a:solidFill>
                      <a:srgbClr val="333399"/>
                    </a:solidFill>
                    <a:latin typeface="华文琥珀"/>
                    <a:ea typeface="华文琥珀"/>
                  </a:rPr>
                  <a:t>例题</a:t>
                </a:r>
                <a:r>
                  <a:rPr b="1" lang="zh-CN" sz="4800" spc="-1" strike="noStrike">
                    <a:solidFill>
                      <a:srgbClr val="333399"/>
                    </a:solidFill>
                    <a:latin typeface="华文琥珀"/>
                    <a:ea typeface="华文琥珀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"/>
            <p:cNvSpPr/>
            <p:nvPr/>
          </p:nvSpPr>
          <p:spPr>
            <a:xfrm>
              <a:off x="5972040" y="3805200"/>
              <a:ext cx="1868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58680" y="1752480"/>
            <a:ext cx="86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华文新魏"/>
                <a:ea typeface="华文新魏"/>
              </a:rPr>
              <a:t>解</a:t>
            </a:r>
            <a:r>
              <a:rPr b="1" lang="en-US" sz="4800" spc="-1" strike="noStrike">
                <a:solidFill>
                  <a:srgbClr val="800080"/>
                </a:solidFill>
                <a:latin typeface="华文新魏"/>
                <a:ea typeface="华文新魏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143000" y="1066680"/>
            <a:ext cx="2819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60638"/>
                </a:solidFill>
                <a:latin typeface="Times New Roman"/>
              </a:rPr>
              <a:t>∵  </a:t>
            </a:r>
            <a:r>
              <a:rPr b="1" lang="en-US" sz="3600" spc="-1" strike="noStrike">
                <a:solidFill>
                  <a:srgbClr val="c60638"/>
                </a:solidFill>
                <a:latin typeface="Times New Roman"/>
              </a:rPr>
              <a:t>DE∥B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70920" y="2133720"/>
            <a:ext cx="5643720" cy="1739880"/>
            <a:chOff x="70920" y="2133720"/>
            <a:chExt cx="5643720" cy="1739880"/>
          </a:xfrm>
        </p:grpSpPr>
        <p:grpSp>
          <p:nvGrpSpPr>
            <p:cNvPr id="439" name=""/>
            <p:cNvGrpSpPr/>
            <p:nvPr/>
          </p:nvGrpSpPr>
          <p:grpSpPr>
            <a:xfrm>
              <a:off x="70920" y="2133720"/>
              <a:ext cx="3432600" cy="1739880"/>
              <a:chOff x="70920" y="2133720"/>
              <a:chExt cx="3432600" cy="1739880"/>
            </a:xfrm>
          </p:grpSpPr>
          <p:sp>
            <p:nvSpPr>
              <p:cNvPr id="440" name=""/>
              <p:cNvSpPr/>
              <p:nvPr/>
            </p:nvSpPr>
            <p:spPr>
              <a:xfrm>
                <a:off x="515520" y="2133720"/>
                <a:ext cx="2620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c60638"/>
                    </a:solidFill>
                    <a:latin typeface="Times New Roman"/>
                  </a:rPr>
                  <a:t>  </a:t>
                </a:r>
                <a:r>
                  <a:rPr b="1" lang="en-US" sz="3600" spc="-1" strike="noStrike">
                    <a:solidFill>
                      <a:srgbClr val="c60638"/>
                    </a:solidFill>
                    <a:latin typeface="Times New Roman"/>
                  </a:rPr>
                  <a:t>AB        AC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c60638"/>
                    </a:solidFill>
                    <a:latin typeface="Times New Roman"/>
                  </a:rPr>
                  <a:t>  </a:t>
                </a:r>
                <a:r>
                  <a:rPr b="1" lang="en-US" sz="3600" spc="-1" strike="noStrike">
                    <a:solidFill>
                      <a:srgbClr val="c60638"/>
                    </a:solidFill>
                    <a:latin typeface="Times New Roman"/>
                  </a:rPr>
                  <a:t>BD        CE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1" name=""/>
              <p:cNvGrpSpPr/>
              <p:nvPr/>
            </p:nvGrpSpPr>
            <p:grpSpPr>
              <a:xfrm>
                <a:off x="70920" y="2867400"/>
                <a:ext cx="3432600" cy="642600"/>
                <a:chOff x="70920" y="2867400"/>
                <a:chExt cx="3432600" cy="64260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70920" y="2867400"/>
                  <a:ext cx="4993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c60638"/>
                      </a:solidFill>
                      <a:latin typeface="Times New Roman"/>
                    </a:rPr>
                    <a:t>∴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95160" y="2867400"/>
                  <a:ext cx="10951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c60638"/>
                      </a:solidFill>
                      <a:latin typeface="Times New Roman"/>
                    </a:rPr>
                    <a:t>——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2408400" y="2867400"/>
                  <a:ext cx="10951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c60638"/>
                      </a:solidFill>
                      <a:latin typeface="Times New Roman"/>
                    </a:rPr>
                    <a:t>——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1905840" y="2867400"/>
                  <a:ext cx="4550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c60638"/>
                      </a:solidFill>
                      <a:latin typeface="Times New Roman"/>
                    </a:rPr>
                    <a:t>＝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6" name=""/>
            <p:cNvSpPr/>
            <p:nvPr/>
          </p:nvSpPr>
          <p:spPr>
            <a:xfrm>
              <a:off x="3645720" y="2822760"/>
              <a:ext cx="206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60638"/>
                  </a:solidFill>
                  <a:latin typeface="Times New Roman"/>
                </a:rPr>
                <a:t>（推论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104040" y="3124080"/>
            <a:ext cx="3092760" cy="1739880"/>
            <a:chOff x="104040" y="3124080"/>
            <a:chExt cx="3092760" cy="1739880"/>
          </a:xfrm>
        </p:grpSpPr>
        <p:sp>
          <p:nvSpPr>
            <p:cNvPr id="448" name=""/>
            <p:cNvSpPr/>
            <p:nvPr/>
          </p:nvSpPr>
          <p:spPr>
            <a:xfrm>
              <a:off x="459000" y="3124080"/>
              <a:ext cx="26449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60638"/>
                  </a:solidFill>
                  <a:latin typeface="Times New Roman"/>
                </a:rPr>
                <a:t>   </a:t>
              </a:r>
              <a:r>
                <a:rPr b="1" lang="en-US" sz="3600" spc="-1" strike="noStrike">
                  <a:solidFill>
                    <a:srgbClr val="c60638"/>
                  </a:solidFill>
                  <a:latin typeface="Times New Roman"/>
                </a:rPr>
                <a:t>15           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60638"/>
                  </a:solidFill>
                  <a:latin typeface="Times New Roman"/>
                </a:rPr>
                <a:t>    </a:t>
              </a:r>
              <a:r>
                <a:rPr b="1" lang="en-US" sz="3600" spc="-1" strike="noStrike">
                  <a:solidFill>
                    <a:srgbClr val="c60638"/>
                  </a:solidFill>
                  <a:latin typeface="Times New Roman"/>
                </a:rPr>
                <a:t>4          C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104040" y="3809880"/>
              <a:ext cx="3092760" cy="724320"/>
              <a:chOff x="104040" y="3809880"/>
              <a:chExt cx="3092760" cy="724320"/>
            </a:xfrm>
          </p:grpSpPr>
          <p:sp>
            <p:nvSpPr>
              <p:cNvPr id="450" name=""/>
              <p:cNvSpPr/>
              <p:nvPr/>
            </p:nvSpPr>
            <p:spPr>
              <a:xfrm>
                <a:off x="659520" y="3891600"/>
                <a:ext cx="1095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c60638"/>
                    </a:solidFill>
                    <a:latin typeface="Times New Roman"/>
                  </a:rPr>
                  <a:t>——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101680" y="3891600"/>
                <a:ext cx="1095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c60638"/>
                    </a:solidFill>
                    <a:latin typeface="Times New Roman"/>
                  </a:rPr>
                  <a:t>——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694160" y="389160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c60638"/>
                    </a:solidFill>
                    <a:latin typeface="Times New Roman"/>
                  </a:rPr>
                  <a:t>＝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04040" y="3809880"/>
                <a:ext cx="485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c60638"/>
                    </a:solidFill>
                    <a:latin typeface="Times New Roman"/>
                    <a:ea typeface="华文新魏"/>
                  </a:rPr>
                  <a:t>即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"/>
          <p:cNvGrpSpPr/>
          <p:nvPr/>
        </p:nvGrpSpPr>
        <p:grpSpPr>
          <a:xfrm>
            <a:off x="72360" y="4191120"/>
            <a:ext cx="3051720" cy="1739880"/>
            <a:chOff x="72360" y="4191120"/>
            <a:chExt cx="3051720" cy="1739880"/>
          </a:xfrm>
        </p:grpSpPr>
        <p:sp>
          <p:nvSpPr>
            <p:cNvPr id="455" name=""/>
            <p:cNvSpPr/>
            <p:nvPr/>
          </p:nvSpPr>
          <p:spPr>
            <a:xfrm>
              <a:off x="1787040" y="502920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60638"/>
                  </a:solidFill>
                  <a:latin typeface="Times New Roman"/>
                </a:rPr>
                <a:t>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"/>
            <p:cNvGrpSpPr/>
            <p:nvPr/>
          </p:nvGrpSpPr>
          <p:grpSpPr>
            <a:xfrm>
              <a:off x="72360" y="4191120"/>
              <a:ext cx="3051720" cy="1739880"/>
              <a:chOff x="72360" y="4191120"/>
              <a:chExt cx="3051720" cy="1739880"/>
            </a:xfrm>
          </p:grpSpPr>
          <p:sp>
            <p:nvSpPr>
              <p:cNvPr id="457" name=""/>
              <p:cNvSpPr/>
              <p:nvPr/>
            </p:nvSpPr>
            <p:spPr>
              <a:xfrm>
                <a:off x="306360" y="4191120"/>
                <a:ext cx="26953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c60638"/>
                    </a:solidFill>
                    <a:latin typeface="Times New Roman"/>
                  </a:rPr>
                  <a:t>                  </a:t>
                </a:r>
                <a:r>
                  <a:rPr b="1" lang="zh-CN" sz="3600" spc="-1" strike="noStrike">
                    <a:solidFill>
                      <a:srgbClr val="c60638"/>
                    </a:solidFill>
                    <a:latin typeface="Times New Roman"/>
                  </a:rPr>
                  <a:t>1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c60638"/>
                    </a:solidFill>
                    <a:latin typeface="Times New Roman"/>
                  </a:rPr>
                  <a:t>                   </a:t>
                </a:r>
                <a:r>
                  <a:rPr b="1" lang="zh-CN" sz="3600" spc="-1" strike="noStrike">
                    <a:solidFill>
                      <a:srgbClr val="c60638"/>
                    </a:solidFill>
                    <a:latin typeface="Times New Roman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362320" y="5029200"/>
                <a:ext cx="761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c60638"/>
                    </a:solidFill>
                    <a:latin typeface="Times New Roman"/>
                  </a:rPr>
                  <a:t>—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2360" y="5029200"/>
                <a:ext cx="499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c60638"/>
                    </a:solidFill>
                    <a:latin typeface="Times New Roman"/>
                  </a:rPr>
                  <a:t>∴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915840" y="5029200"/>
                <a:ext cx="816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c60638"/>
                    </a:solidFill>
                    <a:latin typeface="Times New Roman"/>
                  </a:rPr>
                  <a:t>CE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1" name=""/>
          <p:cNvGrpSpPr/>
          <p:nvPr/>
        </p:nvGrpSpPr>
        <p:grpSpPr>
          <a:xfrm>
            <a:off x="72360" y="5715000"/>
            <a:ext cx="6315480" cy="1144800"/>
            <a:chOff x="72360" y="5715000"/>
            <a:chExt cx="6315480" cy="1144800"/>
          </a:xfrm>
        </p:grpSpPr>
        <p:sp>
          <p:nvSpPr>
            <p:cNvPr id="462" name=""/>
            <p:cNvSpPr/>
            <p:nvPr/>
          </p:nvSpPr>
          <p:spPr>
            <a:xfrm>
              <a:off x="4277160" y="579132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60638"/>
                  </a:solidFill>
                  <a:latin typeface="Times New Roman"/>
                  <a:ea typeface="华文新魏"/>
                </a:rPr>
                <a:t>1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72360" y="5715000"/>
              <a:ext cx="6315480" cy="1144800"/>
              <a:chOff x="72360" y="5715000"/>
              <a:chExt cx="6315480" cy="1144800"/>
            </a:xfrm>
          </p:grpSpPr>
          <p:sp>
            <p:nvSpPr>
              <p:cNvPr id="464" name=""/>
              <p:cNvSpPr/>
              <p:nvPr/>
            </p:nvSpPr>
            <p:spPr>
              <a:xfrm>
                <a:off x="5944680" y="571500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60638"/>
                    </a:solidFill>
                    <a:latin typeface="Times New Roman"/>
                    <a:ea typeface="华文新魏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5" name=""/>
              <p:cNvGrpSpPr/>
              <p:nvPr/>
            </p:nvGrpSpPr>
            <p:grpSpPr>
              <a:xfrm>
                <a:off x="72360" y="5867280"/>
                <a:ext cx="6315480" cy="992520"/>
                <a:chOff x="72360" y="5867280"/>
                <a:chExt cx="6315480" cy="99252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5944680" y="6278400"/>
                  <a:ext cx="38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c60638"/>
                      </a:solidFill>
                      <a:latin typeface="Times New Roman"/>
                      <a:ea typeface="华文新魏"/>
                    </a:rPr>
                    <a:t>5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4379400" y="6278400"/>
                  <a:ext cx="38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c60638"/>
                      </a:solidFill>
                      <a:latin typeface="Times New Roman"/>
                      <a:ea typeface="华文新魏"/>
                    </a:rPr>
                    <a:t>5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8" name=""/>
                <p:cNvGrpSpPr/>
                <p:nvPr/>
              </p:nvGrpSpPr>
              <p:grpSpPr>
                <a:xfrm>
                  <a:off x="72360" y="5867280"/>
                  <a:ext cx="6315480" cy="657720"/>
                  <a:chOff x="72360" y="5867280"/>
                  <a:chExt cx="6315480" cy="657720"/>
                </a:xfrm>
              </p:grpSpPr>
              <p:sp>
                <p:nvSpPr>
                  <p:cNvPr id="469" name=""/>
                  <p:cNvSpPr/>
                  <p:nvPr/>
                </p:nvSpPr>
                <p:spPr>
                  <a:xfrm>
                    <a:off x="72360" y="5867280"/>
                    <a:ext cx="49932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600" spc="-1" strike="noStrike">
                        <a:solidFill>
                          <a:srgbClr val="c60638"/>
                        </a:solidFill>
                        <a:latin typeface="Times New Roman"/>
                      </a:rPr>
                      <a:t>∴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685800" y="5867280"/>
                    <a:ext cx="570204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600" spc="-1" strike="noStrike">
                        <a:solidFill>
                          <a:srgbClr val="c60638"/>
                        </a:solidFill>
                        <a:latin typeface="Times New Roman"/>
                      </a:rPr>
                      <a:t>AE= AC+CE=9+         =11—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4278240" y="5943600"/>
                    <a:ext cx="58752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c60638"/>
                        </a:solidFill>
                        <a:latin typeface="Times New Roman"/>
                        <a:ea typeface="华文新魏"/>
                      </a:rPr>
                      <a:t>—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华文新魏"/>
              </a:rPr>
              <a:t>练习二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华文新魏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295280" y="4495680"/>
            <a:ext cx="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rot="21354600">
            <a:off x="6157440" y="259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118040" y="28494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860720" y="17002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231040" y="2849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310520" y="1628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830240" y="594360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278160" y="556272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277800" y="5943600"/>
            <a:ext cx="76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1753560" y="5715000"/>
            <a:ext cx="2442600" cy="581400"/>
            <a:chOff x="1753560" y="5715000"/>
            <a:chExt cx="2442600" cy="581400"/>
          </a:xfrm>
        </p:grpSpPr>
        <p:sp>
          <p:nvSpPr>
            <p:cNvPr id="483" name=""/>
            <p:cNvSpPr/>
            <p:nvPr/>
          </p:nvSpPr>
          <p:spPr>
            <a:xfrm>
              <a:off x="3201480" y="5715000"/>
              <a:ext cx="99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—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753560" y="5715000"/>
              <a:ext cx="99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—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750760" y="571500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4878360" y="3429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878360" y="46483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249960" y="41911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383320" y="4267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383680" y="62784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-380880" y="533520"/>
            <a:ext cx="2361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(A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组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3429000"/>
            <a:ext cx="1447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(B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组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46200" y="1387440"/>
            <a:ext cx="3976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如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已知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DE∥BC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AB = 14,  AC = 18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AE = 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求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A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的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792360" y="4049640"/>
            <a:ext cx="3754440" cy="2181600"/>
            <a:chOff x="792360" y="4049640"/>
            <a:chExt cx="3754440" cy="2181600"/>
          </a:xfrm>
        </p:grpSpPr>
        <p:grpSp>
          <p:nvGrpSpPr>
            <p:cNvPr id="495" name=""/>
            <p:cNvGrpSpPr/>
            <p:nvPr/>
          </p:nvGrpSpPr>
          <p:grpSpPr>
            <a:xfrm>
              <a:off x="792360" y="4049640"/>
              <a:ext cx="3754440" cy="2181600"/>
              <a:chOff x="792360" y="4049640"/>
              <a:chExt cx="3754440" cy="2181600"/>
            </a:xfrm>
          </p:grpSpPr>
          <p:sp>
            <p:nvSpPr>
              <p:cNvPr id="496" name=""/>
              <p:cNvSpPr/>
              <p:nvPr/>
            </p:nvSpPr>
            <p:spPr>
              <a:xfrm>
                <a:off x="1000080" y="4049640"/>
                <a:ext cx="3546720" cy="20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华文新魏"/>
                  </a:rPr>
                  <a:t>2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华文新魏"/>
                  </a:rPr>
                  <a:t>、如图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华文新魏"/>
                  </a:rPr>
                  <a:t>: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华文新魏"/>
                  </a:rPr>
                  <a:t>已知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华文新魏"/>
                  </a:rPr>
                  <a:t>AB⊥BD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华文新魏"/>
                  </a:rPr>
                  <a:t>，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华文新魏"/>
                  </a:rPr>
                  <a:t>ED⊥BD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华文新魏"/>
                  </a:rPr>
                  <a:t>，垂足分别为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华文新魏"/>
                  </a:rPr>
                  <a:t>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华文新魏"/>
                  </a:rPr>
                  <a:t>B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华文新魏"/>
                  </a:rPr>
                  <a:t>、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华文新魏"/>
                  </a:rPr>
                  <a:t>D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华文新魏"/>
                  </a:rPr>
                  <a:t>。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92360" y="5649840"/>
                <a:ext cx="912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华文新魏"/>
                  </a:rPr>
                  <a:t>求证：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8" name=""/>
            <p:cNvSpPr/>
            <p:nvPr/>
          </p:nvSpPr>
          <p:spPr>
            <a:xfrm>
              <a:off x="1764720" y="5573880"/>
              <a:ext cx="76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A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192640" y="3897360"/>
            <a:ext cx="1295640" cy="914400"/>
          </a:xfrm>
          <a:prstGeom prst="rtTriangle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H="1" flipV="1">
            <a:off x="6411960" y="4811040"/>
            <a:ext cx="2362320" cy="1600200"/>
          </a:xfrm>
          <a:prstGeom prst="rtTriangle">
            <a:avLst/>
          </a:prstGeom>
          <a:solidFill>
            <a:srgbClr val="cc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4572000" y="692280"/>
            <a:ext cx="3657600" cy="2514600"/>
            <a:chOff x="4572000" y="692280"/>
            <a:chExt cx="3657600" cy="2514600"/>
          </a:xfrm>
        </p:grpSpPr>
        <p:sp>
          <p:nvSpPr>
            <p:cNvPr id="502" name=""/>
            <p:cNvSpPr/>
            <p:nvPr/>
          </p:nvSpPr>
          <p:spPr>
            <a:xfrm>
              <a:off x="4572000" y="692280"/>
              <a:ext cx="3657600" cy="2514600"/>
            </a:xfrm>
            <a:prstGeom prst="triangle">
              <a:avLst>
                <a:gd name="adj" fmla="val 44315"/>
              </a:avLst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5281200" y="206064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">
            <a:hlinkClick r:id="" action="ppaction://hlinkshowjump?jump=previousslide"/>
          </p:cNvPr>
          <p:cNvSpPr/>
          <p:nvPr/>
        </p:nvSpPr>
        <p:spPr>
          <a:xfrm>
            <a:off x="8686800" y="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3794" y="12601"/>
                </a:moveTo>
                <a:lnTo>
                  <a:pt x="17806" y="5595"/>
                </a:lnTo>
                <a:lnTo>
                  <a:pt x="17806" y="19608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>
            <a:hlinkClick r:id="rId1" action="ppaction://hlinksldjump"/>
          </p:cNvPr>
          <p:cNvSpPr/>
          <p:nvPr/>
        </p:nvSpPr>
        <p:spPr>
          <a:xfrm>
            <a:off x="8686800" y="533520"/>
            <a:ext cx="457200" cy="380880"/>
          </a:xfrm>
          <a:custGeom>
            <a:avLst/>
            <a:gdLst>
              <a:gd name="textAreaLeft" fmla="*/ 95040 w 457200"/>
              <a:gd name="textAreaRight" fmla="*/ 362160 w 4572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0524" y="5400"/>
                </a:lnTo>
                <a:lnTo>
                  <a:pt x="5400" y="5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0524" y="16200"/>
                </a:lnTo>
                <a:lnTo>
                  <a:pt x="20524" y="5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0524" y="16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643680" y="487692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B = 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364120" y="518148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363760" y="472428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245760" y="495288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809880" y="4876920"/>
            <a:ext cx="762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716360" y="3789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021360" y="1143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259600" y="25146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469280" y="25146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716440" y="4572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935760" y="4572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724360" y="285264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0"/>
            <a:ext cx="2895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达标检测题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850320" y="1387440"/>
            <a:ext cx="3568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如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已知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DE∥BC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AB = 5,  AC = 7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AD= 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求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A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的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1295280"/>
            <a:ext cx="1752840" cy="1524240"/>
          </a:xfrm>
          <a:prstGeom prst="triangle">
            <a:avLst>
              <a:gd name="adj" fmla="val 50000"/>
            </a:avLst>
          </a:prstGeom>
          <a:solidFill>
            <a:srgbClr val="ff66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172200" y="609480"/>
            <a:ext cx="685800" cy="685800"/>
          </a:xfrm>
          <a:prstGeom prst="flowChartMerge">
            <a:avLst/>
          </a:prstGeom>
          <a:solidFill>
            <a:srgbClr val="ff66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554880" y="41148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468920" y="6278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8690040" y="464832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-457200" y="533520"/>
            <a:ext cx="23623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(A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组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0" y="342900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(B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组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191240" y="3962520"/>
            <a:ext cx="3157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已知 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A =∠E=6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求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B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的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210760" y="49528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983120" y="3053160"/>
            <a:ext cx="4069440" cy="3651480"/>
            <a:chOff x="4983120" y="3053160"/>
            <a:chExt cx="4069440" cy="3651480"/>
          </a:xfrm>
        </p:grpSpPr>
        <p:sp>
          <p:nvSpPr>
            <p:cNvPr id="530" name=""/>
            <p:cNvSpPr/>
            <p:nvPr/>
          </p:nvSpPr>
          <p:spPr>
            <a:xfrm rot="7554600">
              <a:off x="5409720" y="3200040"/>
              <a:ext cx="1219320" cy="1676520"/>
            </a:xfrm>
            <a:prstGeom prst="triangle">
              <a:avLst>
                <a:gd name="adj" fmla="val 57472"/>
              </a:avLst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18402600">
              <a:off x="6705360" y="4115160"/>
              <a:ext cx="1752480" cy="23619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3830040" y="4724280"/>
            <a:ext cx="740160" cy="1142640"/>
            <a:chOff x="3830040" y="4724280"/>
            <a:chExt cx="740160" cy="1142640"/>
          </a:xfrm>
        </p:grpSpPr>
        <p:sp>
          <p:nvSpPr>
            <p:cNvPr id="533" name=""/>
            <p:cNvSpPr/>
            <p:nvPr/>
          </p:nvSpPr>
          <p:spPr>
            <a:xfrm>
              <a:off x="3830040" y="4824000"/>
              <a:ext cx="740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—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043160" y="47242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983040" y="52243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">
            <a:hlinkClick r:id="" action="ppaction://hlinkshowjump?jump=previousslide"/>
          </p:cNvPr>
          <p:cNvSpPr/>
          <p:nvPr/>
        </p:nvSpPr>
        <p:spPr>
          <a:xfrm>
            <a:off x="8534520" y="0"/>
            <a:ext cx="609480" cy="609480"/>
          </a:xfrm>
          <a:custGeom>
            <a:avLst/>
            <a:gdLst>
              <a:gd name="textAreaLeft" fmla="*/ 152280 w 609480"/>
              <a:gd name="textAreaRight" fmla="*/ 457200 w 6094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10800"/>
                </a:moveTo>
                <a:lnTo>
                  <a:pt x="14825" y="6775"/>
                </a:lnTo>
                <a:lnTo>
                  <a:pt x="14825" y="14825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611280" y="2276640"/>
            <a:ext cx="51800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△</a:t>
            </a:r>
            <a:r>
              <a:rPr b="1" i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BC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中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i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DE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//</a:t>
            </a:r>
            <a:r>
              <a:rPr b="1" i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DE</a:t>
            </a:r>
            <a:r>
              <a:rPr b="1" i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分别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交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B,</a:t>
            </a:r>
            <a:r>
              <a:rPr b="1" i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C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于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D,</a:t>
            </a:r>
            <a:r>
              <a:rPr b="1" i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△</a:t>
            </a:r>
            <a:r>
              <a:rPr b="1" i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DE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与△</a:t>
            </a:r>
            <a:r>
              <a:rPr b="1" i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有什么关系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5435640" y="1844640"/>
            <a:ext cx="3190680" cy="31622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468360" y="1413000"/>
            <a:ext cx="8424720" cy="3887640"/>
          </a:xfrm>
          <a:prstGeom prst="flowChartProcess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826920" y="476280"/>
            <a:ext cx="1008360" cy="1224000"/>
          </a:xfrm>
          <a:custGeom>
            <a:avLst/>
            <a:gdLst>
              <a:gd name="textAreaLeft" fmla="*/ 65160 w 1008360"/>
              <a:gd name="textAreaRight" fmla="*/ 943200 w 1008360"/>
              <a:gd name="textAreaTop" fmla="*/ 65160 h 1224000"/>
              <a:gd name="textAreaBottom" fmla="*/ 1158840 h 1224000"/>
            </a:gdLst>
            <a:ahLst/>
            <a:rect l="textAreaLeft" t="textAreaTop" r="textAreaRight" b="textAreaBottom"/>
            <a:pathLst>
              <a:path w="21600" h="26218">
                <a:moveTo>
                  <a:pt x="0" y="0"/>
                </a:moveTo>
                <a:lnTo>
                  <a:pt x="21600" y="0"/>
                </a:lnTo>
                <a:lnTo>
                  <a:pt x="21600" y="26218"/>
                </a:lnTo>
                <a:lnTo>
                  <a:pt x="0" y="26218"/>
                </a:lnTo>
                <a:close/>
              </a:path>
              <a:path fill="lightenLess" w="21600" h="262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218">
                <a:moveTo>
                  <a:pt x="21600" y="0"/>
                </a:moveTo>
                <a:lnTo>
                  <a:pt x="21600" y="26218"/>
                </a:lnTo>
                <a:lnTo>
                  <a:pt x="20200" y="24818"/>
                </a:lnTo>
                <a:lnTo>
                  <a:pt x="20200" y="1400"/>
                </a:lnTo>
                <a:close/>
              </a:path>
              <a:path fill="darkenLess" w="21600" h="26218">
                <a:moveTo>
                  <a:pt x="21600" y="26218"/>
                </a:moveTo>
                <a:lnTo>
                  <a:pt x="0" y="26218"/>
                </a:lnTo>
                <a:lnTo>
                  <a:pt x="1400" y="24818"/>
                </a:lnTo>
                <a:lnTo>
                  <a:pt x="20200" y="24818"/>
                </a:lnTo>
                <a:close/>
              </a:path>
              <a:path fill="lighten" w="21600" h="26218">
                <a:moveTo>
                  <a:pt x="0" y="262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818"/>
                </a:lnTo>
                <a:close/>
              </a:path>
              <a:path fill="darken" w="21600" h="26218">
                <a:moveTo>
                  <a:pt x="10800" y="17112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6218">
                <a:moveTo>
                  <a:pt x="11905" y="16590"/>
                </a:moveTo>
                <a:lnTo>
                  <a:pt x="11905" y="14632"/>
                </a:lnTo>
                <a:cubicBezTo>
                  <a:pt x="11905" y="13805"/>
                  <a:pt x="12236" y="13109"/>
                  <a:pt x="12837" y="13109"/>
                </a:cubicBezTo>
                <a:cubicBezTo>
                  <a:pt x="13968" y="13109"/>
                  <a:pt x="14865" y="11742"/>
                  <a:pt x="14865" y="10158"/>
                </a:cubicBezTo>
                <a:cubicBezTo>
                  <a:pt x="14865" y="7843"/>
                  <a:pt x="13011" y="6102"/>
                  <a:pt x="10800" y="6102"/>
                </a:cubicBezTo>
                <a:cubicBezTo>
                  <a:pt x="8589" y="6102"/>
                  <a:pt x="6918" y="7843"/>
                  <a:pt x="6918" y="10158"/>
                </a:cubicBezTo>
                <a:lnTo>
                  <a:pt x="8772" y="10158"/>
                </a:lnTo>
                <a:cubicBezTo>
                  <a:pt x="8772" y="9018"/>
                  <a:pt x="9695" y="8130"/>
                  <a:pt x="10800" y="8130"/>
                </a:cubicBezTo>
                <a:cubicBezTo>
                  <a:pt x="11905" y="8130"/>
                  <a:pt x="12837" y="9018"/>
                  <a:pt x="12837" y="10158"/>
                </a:cubicBezTo>
                <a:cubicBezTo>
                  <a:pt x="12837" y="10898"/>
                  <a:pt x="12367" y="11629"/>
                  <a:pt x="11905" y="11629"/>
                </a:cubicBezTo>
                <a:cubicBezTo>
                  <a:pt x="10800" y="11629"/>
                  <a:pt x="9695" y="13109"/>
                  <a:pt x="9695" y="14632"/>
                </a:cubicBezTo>
                <a:lnTo>
                  <a:pt x="9695" y="16590"/>
                </a:lnTo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835280" y="1052640"/>
            <a:ext cx="2160360" cy="647640"/>
          </a:xfrm>
          <a:prstGeom prst="bevel">
            <a:avLst>
              <a:gd name="adj" fmla="val 12500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195640" y="69228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843280" y="90792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900000" y="404640"/>
            <a:ext cx="93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00"/>
                </a:solidFill>
                <a:latin typeface="Arial"/>
              </a:rPr>
              <a:t>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324000" y="26028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直觉告诉我们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 △ADE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与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相似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们通过相似的定义证明这个结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95280" y="155736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先证明两个三角形的对应角相等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11280" y="2349360"/>
            <a:ext cx="5616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在△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ADE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与△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ABC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中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, ∠A=∠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∵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DE//BC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∴∠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ADE=∠B, ∠AED=∠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5651640" y="1773360"/>
            <a:ext cx="319068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53352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习三角形全等时，我们知道，除了可以通过证明对应角相等，对应边相等来判定两个三角形全等外，还有判定的简便方法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SSS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SAS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S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AS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．类似地，判定两个三角形相似时，是不是对所有的对应角和对应边都要一一验证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549600"/>
            <a:ext cx="792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为了证明相似三角形的判定定理，我们先来学习下面的平行线分线段成比例定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539640" y="18900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再证明两个三角形的对应边的比相等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55640" y="60948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过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E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EF//AB,EF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交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BC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于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F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点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39640" y="99072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在平行四边形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BFED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中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,DE=BF,DB=E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64000" y="2349360"/>
            <a:ext cx="3527640" cy="349272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5381640" y="2349360"/>
            <a:ext cx="3529080" cy="374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4" name=""/>
          <p:cNvGraphicFramePr/>
          <p:nvPr/>
        </p:nvGraphicFramePr>
        <p:xfrm>
          <a:off x="914400" y="1523880"/>
          <a:ext cx="5257800" cy="450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523880"/>
                    <a:ext cx="5257800" cy="450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5665680" y="1905120"/>
            <a:ext cx="3478320" cy="368928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826920" y="990720"/>
            <a:ext cx="705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△AD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∠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A=∠A,∠ADE=∠B, ∠AED=∠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38080" y="4221000"/>
            <a:ext cx="39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∴△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ADE∽△A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1066680" y="2170080"/>
          <a:ext cx="4496040" cy="163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170080"/>
                    <a:ext cx="4496040" cy="16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611280" y="1413000"/>
            <a:ext cx="7775640" cy="581400"/>
          </a:xfrm>
          <a:prstGeom prst="rect">
            <a:avLst/>
          </a:prstGeom>
          <a:solidFill>
            <a:srgbClr val="66ff99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平行于三角形一边的直线和其他两边相交，所构成的三角形与原三角形相似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1685880" y="2743200"/>
            <a:ext cx="31910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395280" y="476280"/>
            <a:ext cx="8209080" cy="612144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rcRect l="0" t="0" r="14565" b="0"/>
          <a:stretch/>
        </p:blipFill>
        <p:spPr>
          <a:xfrm>
            <a:off x="826920" y="1290600"/>
            <a:ext cx="7274160" cy="518004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6705720" y="3429000"/>
            <a:ext cx="1511280" cy="30243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64600" dir="67483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187280" y="2565360"/>
            <a:ext cx="6985080" cy="115092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64600" dir="67483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763640" y="2924280"/>
            <a:ext cx="5472360" cy="4597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64600" dir="67483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请写出它们的对应边的比例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740720" y="0"/>
            <a:ext cx="1224000" cy="1152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57240">
            <a:solidFill>
              <a:srgbClr val="8740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7812000" y="360360"/>
            <a:ext cx="1008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理解</a:t>
            </a:r>
            <a:endParaRPr b="1" lang="en-US" sz="3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4"/>
          <a:stretch/>
        </p:blipFill>
        <p:spPr>
          <a:xfrm>
            <a:off x="8259840" y="26028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5"/>
          <a:stretch/>
        </p:blipFill>
        <p:spPr>
          <a:xfrm>
            <a:off x="468360" y="5973840"/>
            <a:ext cx="884160" cy="88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95280" y="476280"/>
            <a:ext cx="8209080" cy="612144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80880" y="990720"/>
            <a:ext cx="74678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已知：如图，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AB∥EF ∥CD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5535720" y="1971720"/>
            <a:ext cx="2820960" cy="381960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2362320" y="1704960"/>
            <a:ext cx="3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975680" y="1828800"/>
            <a:ext cx="209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图中共有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____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对相似三角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48120" y="3838680"/>
            <a:ext cx="350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△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EOF∽△C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09480" y="24670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B∥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971800" y="2467080"/>
            <a:ext cx="350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△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AOB∽ △FO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62120" y="3152880"/>
            <a:ext cx="350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B∥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62120" y="38386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EF∥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286000" y="2619360"/>
            <a:ext cx="644400" cy="320760"/>
          </a:xfrm>
          <a:prstGeom prst="rightArrow">
            <a:avLst>
              <a:gd name="adj1" fmla="val 50000"/>
              <a:gd name="adj2" fmla="val 50224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362320" y="3305160"/>
            <a:ext cx="644400" cy="320760"/>
          </a:xfrm>
          <a:prstGeom prst="rightArrow">
            <a:avLst>
              <a:gd name="adj1" fmla="val 50000"/>
              <a:gd name="adj2" fmla="val 50224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362320" y="3914640"/>
            <a:ext cx="644400" cy="320760"/>
          </a:xfrm>
          <a:prstGeom prst="rightArrow">
            <a:avLst>
              <a:gd name="adj1" fmla="val 50000"/>
              <a:gd name="adj2" fmla="val 50224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971800" y="3200400"/>
            <a:ext cx="404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△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OB ∽△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7740720" y="0"/>
            <a:ext cx="1224000" cy="1152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57240">
            <a:solidFill>
              <a:srgbClr val="8740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7812000" y="360360"/>
            <a:ext cx="1008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理解</a:t>
            </a:r>
            <a:endParaRPr b="1" lang="en-US" sz="3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4"/>
          <a:stretch/>
        </p:blipFill>
        <p:spPr>
          <a:xfrm>
            <a:off x="8259840" y="26028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589" name="" descr=""/>
          <p:cNvPicPr/>
          <p:nvPr/>
        </p:nvPicPr>
        <p:blipFill>
          <a:blip r:embed="rId5"/>
          <a:stretch/>
        </p:blipFill>
        <p:spPr>
          <a:xfrm>
            <a:off x="0" y="6172200"/>
            <a:ext cx="884160" cy="88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380880" y="457200"/>
            <a:ext cx="8209080" cy="612144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172200" y="781200"/>
            <a:ext cx="2971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62120" y="914400"/>
            <a:ext cx="70102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如图，△</a:t>
            </a:r>
            <a:r>
              <a:rPr b="1" i="1" lang="zh-CN" sz="2800" spc="-1" strike="noStrike">
                <a:solidFill>
                  <a:srgbClr val="0000ff"/>
                </a:solidFill>
                <a:latin typeface="Tahoma"/>
              </a:rPr>
              <a:t>ABC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中，</a:t>
            </a:r>
            <a:r>
              <a:rPr b="1" i="1" lang="zh-CN" sz="2800" spc="-1" strike="noStrike">
                <a:solidFill>
                  <a:srgbClr val="0000ff"/>
                </a:solidFill>
                <a:latin typeface="Tahoma"/>
              </a:rPr>
              <a:t>DE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∥</a:t>
            </a:r>
            <a:r>
              <a:rPr b="1" i="1" lang="zh-CN" sz="2800" spc="-1" strike="noStrike">
                <a:solidFill>
                  <a:srgbClr val="0000ff"/>
                </a:solidFill>
                <a:latin typeface="Tahoma"/>
              </a:rPr>
              <a:t>BC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，</a:t>
            </a:r>
            <a:r>
              <a:rPr b="1" i="1" lang="zh-CN" sz="2800" spc="-1" strike="noStrike">
                <a:solidFill>
                  <a:srgbClr val="0000ff"/>
                </a:solidFill>
                <a:latin typeface="Tahoma"/>
              </a:rPr>
              <a:t>GF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∥</a:t>
            </a:r>
            <a:r>
              <a:rPr b="1" i="1" lang="zh-CN" sz="2800" spc="-1" strike="noStrike">
                <a:solidFill>
                  <a:srgbClr val="0000ff"/>
                </a:solidFill>
                <a:latin typeface="Tahoma"/>
              </a:rPr>
              <a:t>AB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DE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、ＧＦ交于点Ｏ，则图中与△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ABC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相似的三角形共有多少个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?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请你写出来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57200" y="251460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解： 与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△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相似的三角形有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个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219320" y="3200400"/>
            <a:ext cx="2666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△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ＤＥ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△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ＧＦＣ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 △</a:t>
            </a:r>
            <a:r>
              <a:rPr b="1" lang="zh-CN" sz="2800" spc="-1" strike="noStrike">
                <a:solidFill>
                  <a:srgbClr val="cc00ff"/>
                </a:solidFill>
                <a:latin typeface="Times New Roman"/>
              </a:rPr>
              <a:t>ＧＯ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4495680" y="2438280"/>
            <a:ext cx="3463920" cy="3533040"/>
            <a:chOff x="4495680" y="2438280"/>
            <a:chExt cx="3463920" cy="3533040"/>
          </a:xfrm>
        </p:grpSpPr>
        <p:sp>
          <p:nvSpPr>
            <p:cNvPr id="596" name=""/>
            <p:cNvSpPr/>
            <p:nvPr/>
          </p:nvSpPr>
          <p:spPr>
            <a:xfrm flipH="1">
              <a:off x="4885920" y="2987640"/>
              <a:ext cx="1584360" cy="2392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856040" y="5362560"/>
              <a:ext cx="2525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440400" y="2987640"/>
              <a:ext cx="941400" cy="237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5749920" y="3706560"/>
              <a:ext cx="1000080" cy="165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296040" y="243828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495680" y="5016240"/>
              <a:ext cx="57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381800" y="5016240"/>
              <a:ext cx="57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951440" y="392112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313400" y="4346280"/>
              <a:ext cx="57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586480" y="5511600"/>
              <a:ext cx="63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769080" y="3498840"/>
              <a:ext cx="5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369120" y="4498920"/>
              <a:ext cx="45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432400" y="4572000"/>
              <a:ext cx="16351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7740720" y="0"/>
            <a:ext cx="1224000" cy="1152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57240">
            <a:solidFill>
              <a:srgbClr val="8740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7812000" y="360360"/>
            <a:ext cx="1008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运用</a:t>
            </a:r>
            <a:r>
              <a:rPr b="1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4</a:t>
            </a:r>
            <a:endParaRPr b="1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5"/>
          <a:stretch/>
        </p:blipFill>
        <p:spPr>
          <a:xfrm>
            <a:off x="8259840" y="26028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6"/>
          <a:stretch/>
        </p:blipFill>
        <p:spPr>
          <a:xfrm>
            <a:off x="468360" y="5973840"/>
            <a:ext cx="884160" cy="88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80880" y="457200"/>
            <a:ext cx="8209080" cy="612144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57200" y="91440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图在平行四边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一点，连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并延长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延长线于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找出相似的三角形并表示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2666880" y="2971800"/>
            <a:ext cx="397512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380880" y="457200"/>
            <a:ext cx="8763120" cy="612144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304920" y="685800"/>
            <a:ext cx="883908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358920" indent="-35892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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如图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已知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DE ∥ BC,AE=50cm,EC=30cm,BC=70c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    ∠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BAC=45</a:t>
            </a:r>
            <a:r>
              <a:rPr b="1" lang="zh-CN" sz="24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,∠ACB=40</a:t>
            </a:r>
            <a:r>
              <a:rPr b="1" lang="zh-CN" sz="2400" spc="-1" strike="noStrike" baseline="30000">
                <a:solidFill>
                  <a:srgbClr val="0000ff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求∠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AED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和∠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ADE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大小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;(2)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求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DE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的长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62120" y="4038480"/>
            <a:ext cx="67053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2133720" y="4572000"/>
                <a:ext cx="4800600" cy="18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即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所以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22" name=""/>
          <p:cNvGrpSpPr/>
          <p:nvPr/>
        </p:nvGrpSpPr>
        <p:grpSpPr>
          <a:xfrm>
            <a:off x="6018480" y="1295280"/>
            <a:ext cx="2869560" cy="2297160"/>
            <a:chOff x="6018480" y="1295280"/>
            <a:chExt cx="2869560" cy="2297160"/>
          </a:xfrm>
        </p:grpSpPr>
        <p:sp>
          <p:nvSpPr>
            <p:cNvPr id="623" name=""/>
            <p:cNvSpPr/>
            <p:nvPr/>
          </p:nvSpPr>
          <p:spPr>
            <a:xfrm flipV="1">
              <a:off x="6348600" y="1505880"/>
              <a:ext cx="2133360" cy="162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8024760" y="1506240"/>
              <a:ext cx="457200" cy="162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348600" y="31348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491600" y="2020320"/>
              <a:ext cx="304560" cy="11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018480" y="3049200"/>
              <a:ext cx="44100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6560"/>
                  <a:tab algn="l" pos="2013120"/>
                  <a:tab algn="l" pos="3019320"/>
                  <a:tab algn="l" pos="4025880"/>
                  <a:tab algn="l" pos="5032440"/>
                  <a:tab algn="l" pos="6039000"/>
                  <a:tab algn="l" pos="7045200"/>
                  <a:tab algn="l" pos="8051760"/>
                  <a:tab algn="l" pos="9058320"/>
                  <a:tab algn="l" pos="1006488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169400" y="3095280"/>
              <a:ext cx="44100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6560"/>
                  <a:tab algn="l" pos="2013120"/>
                  <a:tab algn="l" pos="3019320"/>
                  <a:tab algn="l" pos="4025880"/>
                  <a:tab algn="l" pos="5032440"/>
                  <a:tab algn="l" pos="6039000"/>
                  <a:tab algn="l" pos="7045200"/>
                  <a:tab algn="l" pos="8051760"/>
                  <a:tab algn="l" pos="9058320"/>
                  <a:tab algn="l" pos="1006488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008200" y="3049200"/>
              <a:ext cx="42264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6560"/>
                  <a:tab algn="l" pos="2013120"/>
                  <a:tab algn="l" pos="3019320"/>
                  <a:tab algn="l" pos="4025880"/>
                  <a:tab algn="l" pos="5032440"/>
                  <a:tab algn="l" pos="6039000"/>
                  <a:tab algn="l" pos="7045200"/>
                  <a:tab algn="l" pos="8051760"/>
                  <a:tab algn="l" pos="9058320"/>
                  <a:tab algn="l" pos="1006488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501320" y="1591560"/>
              <a:ext cx="40428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6560"/>
                  <a:tab algn="l" pos="2013120"/>
                  <a:tab algn="l" pos="3019320"/>
                  <a:tab algn="l" pos="4025880"/>
                  <a:tab algn="l" pos="5032440"/>
                  <a:tab algn="l" pos="6039000"/>
                  <a:tab algn="l" pos="7045200"/>
                  <a:tab algn="l" pos="8051760"/>
                  <a:tab algn="l" pos="9058320"/>
                  <a:tab algn="l" pos="1006488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465400" y="1295280"/>
              <a:ext cx="42264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440" rIns="10044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6560"/>
                  <a:tab algn="l" pos="2013120"/>
                  <a:tab algn="l" pos="3019320"/>
                  <a:tab algn="l" pos="4025880"/>
                  <a:tab algn="l" pos="5032440"/>
                  <a:tab algn="l" pos="6039000"/>
                  <a:tab algn="l" pos="7045200"/>
                  <a:tab algn="l" pos="8051760"/>
                  <a:tab algn="l" pos="9058320"/>
                  <a:tab algn="l" pos="1006488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486360" y="1981080"/>
            <a:ext cx="102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解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1523880" y="2057400"/>
                <a:ext cx="45720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1447920" y="2514600"/>
                <a:ext cx="5331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5" name=""/>
          <p:cNvSpPr/>
          <p:nvPr/>
        </p:nvSpPr>
        <p:spPr>
          <a:xfrm>
            <a:off x="2156400" y="198108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∥ 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173680" y="2514600"/>
            <a:ext cx="248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E∽△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1447920" y="2971800"/>
                <a:ext cx="53316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8" name=""/>
          <p:cNvSpPr/>
          <p:nvPr/>
        </p:nvSpPr>
        <p:spPr>
          <a:xfrm>
            <a:off x="2127600" y="2971800"/>
            <a:ext cx="268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ED=∠C=4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1600200" y="4038480"/>
                <a:ext cx="45720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0" name=""/>
          <p:cNvSpPr/>
          <p:nvPr/>
        </p:nvSpPr>
        <p:spPr>
          <a:xfrm>
            <a:off x="2250000" y="3962520"/>
            <a:ext cx="248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E∽△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1600200" y="4572000"/>
                <a:ext cx="5335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2" name=""/>
          <p:cNvSpPr/>
          <p:nvPr/>
        </p:nvSpPr>
        <p:spPr>
          <a:xfrm>
            <a:off x="7740720" y="0"/>
            <a:ext cx="1224000" cy="1152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57240">
            <a:solidFill>
              <a:srgbClr val="8740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7812000" y="360360"/>
            <a:ext cx="1008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运用</a:t>
            </a:r>
            <a:endParaRPr b="1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3"/>
          <a:stretch/>
        </p:blipFill>
        <p:spPr>
          <a:xfrm>
            <a:off x="8259840" y="26028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645" name="" descr=""/>
          <p:cNvPicPr/>
          <p:nvPr/>
        </p:nvPicPr>
        <p:blipFill>
          <a:blip r:embed="rId4"/>
          <a:stretch/>
        </p:blipFill>
        <p:spPr>
          <a:xfrm>
            <a:off x="468360" y="5973840"/>
            <a:ext cx="884160" cy="88416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>
            <a:off x="457200" y="3429000"/>
            <a:ext cx="849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D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∠ADE=180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40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45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95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  <p:sndAc>
      <p:stSnd>
        <p:snd r:embed="rId5" name="chimes.wav"/>
      </p:stSnd>
    </p:sndAc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2" dur="5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380880" y="457200"/>
            <a:ext cx="8209080" cy="612144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1"/>
          <a:stretch/>
        </p:blipFill>
        <p:spPr>
          <a:xfrm>
            <a:off x="8259840" y="26028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2"/>
          <a:stretch/>
        </p:blipFill>
        <p:spPr>
          <a:xfrm>
            <a:off x="468360" y="5973840"/>
            <a:ext cx="884160" cy="88416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609480" y="914400"/>
            <a:ext cx="87631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，在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G∥EH∥FI∥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请找出图中所有的相似三角形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如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D=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B=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那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C=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3581280" y="3505320"/>
            <a:ext cx="3200400" cy="2882520"/>
            <a:chOff x="3581280" y="3505320"/>
            <a:chExt cx="3200400" cy="2882520"/>
          </a:xfrm>
        </p:grpSpPr>
        <p:sp>
          <p:nvSpPr>
            <p:cNvPr id="652" name=""/>
            <p:cNvSpPr/>
            <p:nvPr/>
          </p:nvSpPr>
          <p:spPr>
            <a:xfrm flipH="1">
              <a:off x="3962160" y="3962160"/>
              <a:ext cx="1447920" cy="2057040"/>
            </a:xfrm>
            <a:prstGeom prst="line">
              <a:avLst/>
            </a:prstGeom>
            <a:ln w="38160">
              <a:solidFill>
                <a:srgbClr val="b813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962160" y="6019560"/>
              <a:ext cx="2362320" cy="0"/>
            </a:xfrm>
            <a:prstGeom prst="line">
              <a:avLst/>
            </a:prstGeom>
            <a:ln w="38160">
              <a:solidFill>
                <a:srgbClr val="b813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 flipV="1">
              <a:off x="5410080" y="3962160"/>
              <a:ext cx="914400" cy="2057040"/>
            </a:xfrm>
            <a:prstGeom prst="line">
              <a:avLst/>
            </a:prstGeom>
            <a:ln w="38160">
              <a:solidFill>
                <a:srgbClr val="b813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876560" y="4647960"/>
              <a:ext cx="838080" cy="0"/>
            </a:xfrm>
            <a:prstGeom prst="line">
              <a:avLst/>
            </a:prstGeom>
            <a:ln w="38160">
              <a:solidFill>
                <a:srgbClr val="b813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647960" y="5105160"/>
              <a:ext cx="1295280" cy="0"/>
            </a:xfrm>
            <a:prstGeom prst="line">
              <a:avLst/>
            </a:prstGeom>
            <a:ln w="38160">
              <a:solidFill>
                <a:srgbClr val="b813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181480" y="350532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81302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581280" y="58672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81302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48160" y="579096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81302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495680" y="43574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81302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190760" y="472428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81302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962160" y="527184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81302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638680" y="43434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81302"/>
                  </a:solidFill>
                  <a:latin typeface="Times New Roman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267080" y="5562360"/>
              <a:ext cx="1828800" cy="0"/>
            </a:xfrm>
            <a:prstGeom prst="line">
              <a:avLst/>
            </a:prstGeom>
            <a:ln w="38160">
              <a:solidFill>
                <a:srgbClr val="b813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867280" y="47386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81302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095880" y="51958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81302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"/>
          <p:cNvSpPr/>
          <p:nvPr/>
        </p:nvSpPr>
        <p:spPr>
          <a:xfrm>
            <a:off x="990720" y="222408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△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DG∽△AEH∽△AFI∽△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020000" y="278136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7740720" y="0"/>
            <a:ext cx="1224000" cy="1152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57240">
            <a:solidFill>
              <a:srgbClr val="8740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7812000" y="360360"/>
            <a:ext cx="1008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运用</a:t>
            </a:r>
            <a:endParaRPr b="1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828800" y="1194120"/>
            <a:ext cx="6939720" cy="4926960"/>
            <a:chOff x="1828800" y="1194120"/>
            <a:chExt cx="6939720" cy="4926960"/>
          </a:xfrm>
        </p:grpSpPr>
        <p:sp>
          <p:nvSpPr>
            <p:cNvPr id="57" name=""/>
            <p:cNvSpPr/>
            <p:nvPr/>
          </p:nvSpPr>
          <p:spPr>
            <a:xfrm>
              <a:off x="1828800" y="2590920"/>
              <a:ext cx="5715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28800" y="3505320"/>
              <a:ext cx="5791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828800" y="5105520"/>
              <a:ext cx="5791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2391480" y="1386000"/>
              <a:ext cx="1465200" cy="4619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96760" y="1194120"/>
              <a:ext cx="1827000" cy="4926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35040" y="1955880"/>
              <a:ext cx="85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00"/>
                  </a:solidFill>
                  <a:latin typeface="Times New Roman"/>
                </a:rPr>
                <a:t>L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835040" y="3098880"/>
              <a:ext cx="85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00"/>
                  </a:solidFill>
                  <a:latin typeface="Times New Roman"/>
                </a:rPr>
                <a:t>L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911000" y="4394160"/>
              <a:ext cx="85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00"/>
                  </a:solidFill>
                  <a:latin typeface="Times New Roman"/>
                </a:rPr>
                <a:t>L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058840" y="1828800"/>
            <a:ext cx="4245120" cy="3416040"/>
            <a:chOff x="2058840" y="1828800"/>
            <a:chExt cx="4245120" cy="3416040"/>
          </a:xfrm>
        </p:grpSpPr>
        <p:sp>
          <p:nvSpPr>
            <p:cNvPr id="66" name=""/>
            <p:cNvSpPr/>
            <p:nvPr/>
          </p:nvSpPr>
          <p:spPr>
            <a:xfrm>
              <a:off x="2820960" y="1828800"/>
              <a:ext cx="58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800000"/>
                  </a:solidFill>
                  <a:latin typeface="Times New Roman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92360" y="2819520"/>
              <a:ext cx="58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800000"/>
                  </a:solidFill>
                  <a:latin typeface="Times New Roman"/>
                </a:rPr>
                <a:t>B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58840" y="4419720"/>
              <a:ext cx="58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800000"/>
                  </a:solidFill>
                  <a:latin typeface="Times New Roman"/>
                </a:rPr>
                <a:t>C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030640" y="1828800"/>
              <a:ext cx="621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800000"/>
                  </a:solidFill>
                  <a:latin typeface="Times New Roman"/>
                </a:rPr>
                <a:t>D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259240" y="2743200"/>
              <a:ext cx="58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800000"/>
                  </a:solidFill>
                  <a:latin typeface="Times New Roman"/>
                </a:rPr>
                <a:t>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716440" y="4343400"/>
              <a:ext cx="58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800000"/>
                  </a:solidFill>
                  <a:latin typeface="Times New Roman"/>
                </a:rPr>
                <a:t>F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200400" y="609480"/>
            <a:ext cx="1828800" cy="901440"/>
            <a:chOff x="3200400" y="609480"/>
            <a:chExt cx="1828800" cy="901440"/>
          </a:xfrm>
        </p:grpSpPr>
        <p:sp>
          <p:nvSpPr>
            <p:cNvPr id="73" name=""/>
            <p:cNvSpPr/>
            <p:nvPr/>
          </p:nvSpPr>
          <p:spPr>
            <a:xfrm>
              <a:off x="3200400" y="685800"/>
              <a:ext cx="895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L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124160" y="609480"/>
              <a:ext cx="905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L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533520" y="1752480"/>
            <a:ext cx="4606200" cy="4437360"/>
            <a:chOff x="533520" y="1752480"/>
            <a:chExt cx="4606200" cy="4437360"/>
          </a:xfrm>
        </p:grpSpPr>
        <p:sp>
          <p:nvSpPr>
            <p:cNvPr id="76" name=""/>
            <p:cNvSpPr/>
            <p:nvPr/>
          </p:nvSpPr>
          <p:spPr>
            <a:xfrm>
              <a:off x="2019960" y="1752480"/>
              <a:ext cx="2527560" cy="764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800080"/>
                  </a:solidFill>
                  <a:latin typeface="Times New Roman"/>
                  <a:ea typeface="隶书"/>
                </a:rPr>
                <a:t>定理的符号语言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533520" y="2717640"/>
              <a:ext cx="4430520" cy="2730240"/>
              <a:chOff x="533520" y="2717640"/>
              <a:chExt cx="4430520" cy="2730240"/>
            </a:xfrm>
          </p:grpSpPr>
          <p:sp>
            <p:nvSpPr>
              <p:cNvPr id="78" name=""/>
              <p:cNvSpPr/>
              <p:nvPr/>
            </p:nvSpPr>
            <p:spPr>
              <a:xfrm>
                <a:off x="533520" y="28702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914400" y="28702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85800" y="32511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         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372680" y="2717640"/>
                <a:ext cx="26902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L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3</a:t>
                </a: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//L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4</a:t>
                </a: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//L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38080" y="454644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33520" y="454644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85800" y="424188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897280" y="3936960"/>
                <a:ext cx="61524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427040" y="4530600"/>
                <a:ext cx="1239840" cy="158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687840" y="4498920"/>
                <a:ext cx="12762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449000" y="3632040"/>
                <a:ext cx="10281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A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735000" y="3556080"/>
                <a:ext cx="10281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DE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449000" y="4622760"/>
                <a:ext cx="10281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B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812040" y="4546440"/>
                <a:ext cx="959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EF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1024560" y="5486400"/>
              <a:ext cx="4115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平行线分线段成比例定理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228600" y="228600"/>
            <a:ext cx="685800" cy="762120"/>
          </a:xfrm>
          <a:custGeom>
            <a:avLst/>
            <a:gdLst>
              <a:gd name="textAreaLeft" fmla="*/ 282600 w 685800"/>
              <a:gd name="textAreaRight" fmla="*/ 403200 w 685800"/>
              <a:gd name="textAreaTop" fmla="*/ 313920 h 762120"/>
              <a:gd name="textAreaBottom" fmla="*/ 4482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447920"/>
            <a:ext cx="914400" cy="838080"/>
          </a:xfrm>
          <a:prstGeom prst="lightningBol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066680" y="609480"/>
          <a:ext cx="1062000" cy="9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609480"/>
                    <a:ext cx="106200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7" name=""/>
          <p:cNvGrpSpPr/>
          <p:nvPr/>
        </p:nvGrpSpPr>
        <p:grpSpPr>
          <a:xfrm>
            <a:off x="1447920" y="228600"/>
            <a:ext cx="6117120" cy="1495800"/>
            <a:chOff x="1447920" y="228600"/>
            <a:chExt cx="6117120" cy="1495800"/>
          </a:xfrm>
        </p:grpSpPr>
        <p:sp>
          <p:nvSpPr>
            <p:cNvPr id="98" name=""/>
            <p:cNvSpPr/>
            <p:nvPr/>
          </p:nvSpPr>
          <p:spPr>
            <a:xfrm>
              <a:off x="1767600" y="1143000"/>
              <a:ext cx="579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三条平行线截两条直线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,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所得的对应线段的比相等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1447920" y="228600"/>
              <a:ext cx="198108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999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b2b2b2"/>
                    </a:solidFill>
                    <a:miter/>
                  </a:ln>
                  <a:gradFill rotWithShape="0">
                    <a:gsLst>
                      <a:gs pos="0">
                        <a:srgbClr val="520402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latin typeface="华文琥珀"/>
                </a:rPr>
                <a:t>定理</a:t>
              </a:r>
              <a:endPara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华文琥珀"/>
                <a:ea typeface="华文琥珀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308560" y="1600200"/>
            <a:ext cx="3834360" cy="3657600"/>
            <a:chOff x="5308560" y="1600200"/>
            <a:chExt cx="3834360" cy="3657600"/>
          </a:xfrm>
        </p:grpSpPr>
        <p:grpSp>
          <p:nvGrpSpPr>
            <p:cNvPr id="101" name=""/>
            <p:cNvGrpSpPr/>
            <p:nvPr/>
          </p:nvGrpSpPr>
          <p:grpSpPr>
            <a:xfrm>
              <a:off x="5308560" y="1949400"/>
              <a:ext cx="3111480" cy="3308400"/>
              <a:chOff x="5308560" y="1949400"/>
              <a:chExt cx="3111480" cy="3308400"/>
            </a:xfrm>
          </p:grpSpPr>
          <p:sp>
            <p:nvSpPr>
              <p:cNvPr id="102" name=""/>
              <p:cNvSpPr/>
              <p:nvPr/>
            </p:nvSpPr>
            <p:spPr>
              <a:xfrm>
                <a:off x="5384880" y="2743200"/>
                <a:ext cx="2995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384880" y="3352680"/>
                <a:ext cx="30351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308560" y="4419720"/>
                <a:ext cx="3035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137360" y="2057400"/>
                <a:ext cx="798480" cy="32004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5790960" y="1949400"/>
                <a:ext cx="718920" cy="29574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5488200" y="2209680"/>
              <a:ext cx="2738160" cy="2334240"/>
              <a:chOff x="5488200" y="2209680"/>
              <a:chExt cx="2738160" cy="2334240"/>
            </a:xfrm>
          </p:grpSpPr>
          <p:sp>
            <p:nvSpPr>
              <p:cNvPr id="108" name=""/>
              <p:cNvSpPr/>
              <p:nvPr/>
            </p:nvSpPr>
            <p:spPr>
              <a:xfrm>
                <a:off x="7316640" y="220968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800000"/>
                    </a:solidFill>
                    <a:latin typeface="Times New Roman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469280" y="28494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800000"/>
                    </a:solidFill>
                    <a:latin typeface="Times New Roman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774200" y="38862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800000"/>
                    </a:solidFill>
                    <a:latin typeface="Times New Roman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945400" y="220968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80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92760" y="284940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800000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488200" y="39625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800000"/>
                    </a:solidFill>
                    <a:latin typeface="Times New Roman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6173280" y="1600200"/>
              <a:ext cx="2969640" cy="3111480"/>
              <a:chOff x="6173280" y="1600200"/>
              <a:chExt cx="2969640" cy="3111480"/>
            </a:xfrm>
          </p:grpSpPr>
          <p:sp>
            <p:nvSpPr>
              <p:cNvPr id="115" name=""/>
              <p:cNvSpPr/>
              <p:nvPr/>
            </p:nvSpPr>
            <p:spPr>
              <a:xfrm>
                <a:off x="8509680" y="2514600"/>
                <a:ext cx="63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357400" y="3352680"/>
                <a:ext cx="63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L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282520" y="4191120"/>
                <a:ext cx="57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6173280" y="1600200"/>
                <a:ext cx="1342080" cy="581400"/>
                <a:chOff x="6173280" y="1600200"/>
                <a:chExt cx="1342080" cy="5814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6173280" y="1600200"/>
                  <a:ext cx="6562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L1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6859080" y="1600200"/>
                  <a:ext cx="6562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L2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ng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1828800" y="1194120"/>
            <a:ext cx="6939720" cy="4926960"/>
            <a:chOff x="1828800" y="1194120"/>
            <a:chExt cx="6939720" cy="4926960"/>
          </a:xfrm>
        </p:grpSpPr>
        <p:sp>
          <p:nvSpPr>
            <p:cNvPr id="122" name=""/>
            <p:cNvSpPr/>
            <p:nvPr/>
          </p:nvSpPr>
          <p:spPr>
            <a:xfrm>
              <a:off x="1828800" y="2590920"/>
              <a:ext cx="5715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28800" y="3505320"/>
              <a:ext cx="5791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28800" y="5105520"/>
              <a:ext cx="5791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391480" y="1386000"/>
              <a:ext cx="1465200" cy="4619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496760" y="1194120"/>
              <a:ext cx="1827000" cy="4926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835040" y="1955880"/>
              <a:ext cx="85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00"/>
                  </a:solidFill>
                  <a:latin typeface="Times New Roman"/>
                </a:rPr>
                <a:t>L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835040" y="3098880"/>
              <a:ext cx="85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00"/>
                  </a:solidFill>
                  <a:latin typeface="Times New Roman"/>
                </a:rPr>
                <a:t>L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911000" y="4394160"/>
              <a:ext cx="85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00"/>
                  </a:solidFill>
                  <a:latin typeface="Times New Roman"/>
                </a:rPr>
                <a:t>L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058840" y="1828800"/>
            <a:ext cx="4245120" cy="3416040"/>
            <a:chOff x="2058840" y="1828800"/>
            <a:chExt cx="4245120" cy="3416040"/>
          </a:xfrm>
        </p:grpSpPr>
        <p:sp>
          <p:nvSpPr>
            <p:cNvPr id="131" name=""/>
            <p:cNvSpPr/>
            <p:nvPr/>
          </p:nvSpPr>
          <p:spPr>
            <a:xfrm>
              <a:off x="2820960" y="1828800"/>
              <a:ext cx="58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800000"/>
                  </a:solidFill>
                  <a:latin typeface="Times New Roman"/>
                </a:rPr>
                <a:t>A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92360" y="2819520"/>
              <a:ext cx="58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800000"/>
                  </a:solidFill>
                  <a:latin typeface="Times New Roman"/>
                </a:rPr>
                <a:t>B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058840" y="4419720"/>
              <a:ext cx="58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800000"/>
                  </a:solidFill>
                  <a:latin typeface="Times New Roman"/>
                </a:rPr>
                <a:t>C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30640" y="1828800"/>
              <a:ext cx="621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800000"/>
                  </a:solidFill>
                  <a:latin typeface="Times New Roman"/>
                </a:rPr>
                <a:t>D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259240" y="2743200"/>
              <a:ext cx="58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800000"/>
                  </a:solidFill>
                  <a:latin typeface="Times New Roman"/>
                </a:rPr>
                <a:t>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16440" y="4343400"/>
              <a:ext cx="58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800000"/>
                  </a:solidFill>
                  <a:latin typeface="Times New Roman"/>
                </a:rPr>
                <a:t>F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200400" y="609480"/>
            <a:ext cx="1828800" cy="901440"/>
            <a:chOff x="3200400" y="609480"/>
            <a:chExt cx="1828800" cy="901440"/>
          </a:xfrm>
        </p:grpSpPr>
        <p:sp>
          <p:nvSpPr>
            <p:cNvPr id="138" name=""/>
            <p:cNvSpPr/>
            <p:nvPr/>
          </p:nvSpPr>
          <p:spPr>
            <a:xfrm>
              <a:off x="3200400" y="685800"/>
              <a:ext cx="895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L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24160" y="609480"/>
              <a:ext cx="905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L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828800" y="2590920"/>
            <a:ext cx="5715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3505320"/>
            <a:ext cx="5791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5105520"/>
            <a:ext cx="5791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391480" y="1386000"/>
            <a:ext cx="1465200" cy="4619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96760" y="1194120"/>
            <a:ext cx="1827000" cy="4926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835040" y="19558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35040" y="30988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911000" y="439416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78160" y="685800"/>
            <a:ext cx="89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19480" y="533520"/>
            <a:ext cx="90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1828800" y="1367280"/>
            <a:ext cx="6939720" cy="4580640"/>
            <a:chOff x="1828800" y="1367280"/>
            <a:chExt cx="6939720" cy="4580640"/>
          </a:xfrm>
        </p:grpSpPr>
        <p:sp>
          <p:nvSpPr>
            <p:cNvPr id="151" name=""/>
            <p:cNvSpPr/>
            <p:nvPr/>
          </p:nvSpPr>
          <p:spPr>
            <a:xfrm>
              <a:off x="1828800" y="2590920"/>
              <a:ext cx="5715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05120" y="3505320"/>
              <a:ext cx="5790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28800" y="5105520"/>
              <a:ext cx="5791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2054160" y="1521360"/>
              <a:ext cx="2139840" cy="4348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22360" y="1367280"/>
              <a:ext cx="2575800" cy="4580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35040" y="1955880"/>
              <a:ext cx="85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00"/>
                  </a:solidFill>
                  <a:latin typeface="Times New Roman"/>
                </a:rPr>
                <a:t>L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835040" y="3098880"/>
              <a:ext cx="85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00"/>
                  </a:solidFill>
                  <a:latin typeface="Times New Roman"/>
                </a:rPr>
                <a:t>L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911000" y="4394160"/>
              <a:ext cx="85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000000"/>
                  </a:solidFill>
                  <a:latin typeface="Times New Roman"/>
                </a:rPr>
                <a:t>L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3277800" y="762120"/>
            <a:ext cx="160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1L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828800" y="2590920"/>
            <a:ext cx="5715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505320"/>
            <a:ext cx="5790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28800" y="5105520"/>
            <a:ext cx="5791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169000" y="1581120"/>
            <a:ext cx="2367360" cy="4229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80800" y="1648440"/>
            <a:ext cx="2754000" cy="4475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835040" y="19558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835040" y="30988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911000" y="439416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24160" y="838080"/>
            <a:ext cx="8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76720" y="762120"/>
            <a:ext cx="90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828800" y="2590920"/>
            <a:ext cx="5715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05120" y="3505320"/>
            <a:ext cx="5790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828800" y="5105520"/>
            <a:ext cx="5791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169000" y="1581120"/>
            <a:ext cx="2367360" cy="4229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80800" y="1648440"/>
            <a:ext cx="2754000" cy="4475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835040" y="19558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835040" y="30988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911000" y="439416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L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24160" y="838080"/>
            <a:ext cx="8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762120"/>
            <a:ext cx="90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czsx.com.cn</dc:creator>
  <dc:description>www.czsx.com.cn</dc:description>
  <dc:language>en-US</dc:language>
  <cp:lastModifiedBy>User</cp:lastModifiedBy>
  <dcterms:modified xsi:type="dcterms:W3CDTF">2012-12-18T07:51:47Z</dcterms:modified>
  <cp:revision>55</cp:revision>
  <dc:subject/>
  <dc:title>www.czsx.com.c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